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59659"/>
        <c:axId val="32925592"/>
      </c:barChart>
      <c:catAx>
        <c:axId val="69459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25592"/>
        <c:crosses val="autoZero"/>
        <c:auto val="1"/>
        <c:lblAlgn val="ctr"/>
        <c:lblOffset val="100"/>
        <c:noMultiLvlLbl val="0"/>
      </c:catAx>
      <c:valAx>
        <c:axId val="32925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9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52E-4261-4A94-ABED-7FA3839F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6F2-5C81-48E9-909F-BD96C35E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06E-FE81-4D72-ACFC-27A6E990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EA3-5500-4B79-9546-39994E39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A21-9AE4-463E-A488-8E9B5497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289-D959-4530-800A-DD823534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668-B981-4BEA-B0EB-841164A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E3F-FDD3-4541-875F-D3333502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632-84E2-4380-BD02-70A73129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40C-13D3-4605-8568-C05F946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1DE-EB4B-4D9C-9239-8A17A3D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F54-C7F0-4172-849A-614E0AD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24155-BF59-41B4-9C7C-60AE78608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