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34182"/>
        <c:axId val="4373031"/>
      </c:barChart>
      <c:catAx>
        <c:axId val="67934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031"/>
        <c:crosses val="autoZero"/>
        <c:auto val="1"/>
        <c:lblAlgn val="ctr"/>
        <c:lblOffset val="100"/>
        <c:noMultiLvlLbl val="0"/>
      </c:catAx>
      <c:valAx>
        <c:axId val="4373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34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F4C-E89F-47FD-AD13-648E3A65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E85-E46A-4ABE-9370-E6319AC6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F45-04F2-4EE2-AB4F-FF509F60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5A1-9016-4CCD-A1FD-0A1F2D9A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10B-E49D-45E8-86F4-7F701676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F03-06BB-4CE3-8305-7AAF9962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6F3-7590-4B64-A024-B0C5505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7AF-998D-4C96-8DF1-3697BB60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CB3-A99A-4814-ADFB-CF9316F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458-DC02-412D-A87E-F1846FA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94C-8330-43EC-80EB-996870C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E2E-B567-4A2E-9EDC-60A83420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82157-22F9-40D4-89B9-E8467FA66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