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107901"/>
        <c:axId val="82095059"/>
      </c:barChart>
      <c:catAx>
        <c:axId val="841079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095059"/>
        <c:crosses val="autoZero"/>
        <c:auto val="1"/>
        <c:lblAlgn val="ctr"/>
        <c:lblOffset val="100"/>
        <c:noMultiLvlLbl val="0"/>
      </c:catAx>
      <c:valAx>
        <c:axId val="820950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1079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81F1-A51F-4E9F-BE0E-7FEAC787D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DE16-2CB0-450B-9348-B3F80E20B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4400-1118-455C-A6D9-F8166147E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3E1D-5336-449E-B7A9-BF5545758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06B8-EA05-426E-A1DD-449900D47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9AA9-3B58-4572-9506-ADF3FC3F5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F75A-1ED3-416F-A31F-B984E995C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9FEE-C8EC-4AA9-9368-460A79DF9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60FF-881E-4DC8-87EB-2E6AD3507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DB5E-F23D-431C-AE34-22D45CAC3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6737-FE8D-4253-82BB-F1C7EF63A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AE7A-3DF9-48BC-A483-F2681CA3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EC6D8C-E158-427E-8B0F-557C65C0A0B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