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27859"/>
        <c:axId val="76011712"/>
      </c:barChart>
      <c:catAx>
        <c:axId val="84127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1712"/>
        <c:crosses val="autoZero"/>
        <c:auto val="1"/>
        <c:lblAlgn val="ctr"/>
        <c:lblOffset val="100"/>
        <c:noMultiLvlLbl val="0"/>
      </c:catAx>
      <c:valAx>
        <c:axId val="76011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27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130-A798-45D1-87B2-AE2F4EA3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884-31F9-4DD5-BE1B-E35220EA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DB5-8CD9-48F1-83DD-0A4B5098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0CE-0A9B-4202-AD7F-2D2BD176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B25-37C6-47C7-8D23-0C1B458F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83E-DA2C-41B9-9CD8-58B8F1D7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110-64A8-425F-B1C2-5276B963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C94-6843-4190-B15C-028EC32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FF4-0A8C-4CB0-A83F-4AE0E2C1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91D-8FFA-410B-972B-AF0F8A1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15C-6940-473F-AB49-09714CE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7A7-2343-41F1-8285-9DEEAE6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95381-266A-4E80-B99D-608EA66FE1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