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796072"/>
        <c:axId val="16314181"/>
      </c:barChart>
      <c:catAx>
        <c:axId val="157960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14181"/>
        <c:crosses val="autoZero"/>
        <c:auto val="1"/>
        <c:lblAlgn val="ctr"/>
        <c:lblOffset val="100"/>
        <c:noMultiLvlLbl val="0"/>
      </c:catAx>
      <c:valAx>
        <c:axId val="163141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960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97DC-EF99-44EA-88E6-2B2601D8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FC68-2AEA-47F0-8250-B5B90091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F5BD-5DF4-482B-9576-1B15D11B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D5FB-7D17-492E-B127-6606BAE9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38BF-C12A-4188-A294-3267961C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BCE-A4AB-4E0C-861D-01B73D81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45DB-96FE-4A0E-9590-B3B418D9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1984-D5D7-4A7A-BBAA-062337FE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7D30-3538-4A03-8BD1-8778973F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F98C-F51D-49F7-9DC1-5AA0E885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7E1B-D717-4C30-8067-A034B4D2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1345-B7D6-4523-8CC9-18101EC7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D418B-60B3-4B71-8BB3-590B98B6A5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