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54D29E-EF9B-4A3E-BFB9-CC83C8D54B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682B3D-018D-4D33-821E-66F2930897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FCD707-2FBB-4BED-9BEF-3209C200EE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F6C608-AFDC-4228-83CA-6D710FF8BC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8589CA-792F-4088-BD52-643F756334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90DEE4-B61E-4B51-BFA8-69CA62458C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8157FB-324E-44BF-884F-3B84B69828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2D0449-CAF9-42E9-B548-FAD16AD7BF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643F37-FEE8-4D38-866F-01307F56B7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F42157-E293-4FD3-AE47-6D10B0AA11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9252EE-70CD-4D64-9040-C751293549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9A9FAB-B848-4E5F-A0EC-E0BE709076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64E8AF-D509-474D-9D71-23D817FDAE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CC9E32-E6D5-48D3-82F2-5E9EA0A4F8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E268E0-FA18-423A-AF28-A0A62821FD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21AC02-A54E-4DEF-B674-3298919D9D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0A958E-7CA0-4FD5-9BE9-AD24A7499E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25F632-43F1-4300-B933-2149D872C3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26111F-94B3-45A9-9012-1B05D63377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66618D-9356-4F89-A9EA-B3046D2F1C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7B3FAD-5D71-4C3D-9507-5F9E3E64D4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4F4232-9397-4BF8-AD90-4269C53A15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ED8AF9-BED7-40B7-934B-10C2DA69A3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714F44-4A38-43AA-AA99-F41EC4F7B2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C528F-26FF-4CDD-A1B1-CD485AAA78A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438BB-E16F-44EC-87BB-7D5A3809618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1240108-0FBB-4287-8C53-D6B1D773106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F494E99-00F1-4D65-BAFB-E37AC6DC309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D15E53-D34E-4A1F-B132-804B5CECBF6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EFB067-18DE-4CD9-B636-99CDA877F5D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0ED1DE-1C77-4ADB-BB4E-A88C719B132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88B261-539A-4C0E-95A8-847515F7C17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CEF84D-D823-41E5-8964-8C72EF73529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D691C1-E24B-41BB-A397-7EED9EBCFFBF}"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B26AFC-90BF-4523-AE6D-EC706B55F8B1}"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5BD822-B51D-4CB9-9B3E-9B4880DC5325}"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58282E-9D44-445F-B9D6-E354E7FF7680}"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FE33D7-68E5-461B-A1CB-A372D61B6FE8}"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24FCA0-15C7-4FA9-9193-ECA177C3CFC7}"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0C986A-9EEB-4909-8751-16C1671B7BE3}"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E36DF9-2DF0-4CFE-A893-F223F6DDD01B}"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CB484D-A46E-4F4B-AD4B-CD33C2DFABE7}"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D78862-48E5-4992-897D-61C11DC4A306}"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11E01A-2831-4A3B-929C-61195632DCDE}"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751AEC-CF58-4B83-BBF2-A1D62FF086FA}"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E18670-1767-4E5E-A05F-4159746E056A}"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C79989-8E9C-4FE0-BB80-ECC3B3C9F35B}"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ED4B95-A1C4-41D5-A5DC-86B1E5FF44AC}"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070228-BE31-42DA-B0DC-4E69AC3D82C8}"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6E1AD6-10F3-4B9A-BA7B-CC843D441648}"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E67D13-765F-4A83-AC48-F5AF313457C6}"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8F27E5-DB61-4CBC-9508-527400B6BB85}"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E8FEB2-8636-47B5-96B3-71B5859D549F}"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DE829F5-AF0B-4D4A-A6DA-E7C5B3755B80}"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138816-E3AB-436F-B3DC-81B11CBBAF38}"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3D7291-17E1-4D24-9D19-0ADBAF57A33A}"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385B0F-5B5C-4E6E-BBAF-6CFBC2354F89}"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1CA0CC-AAB5-436A-9A8B-6E80CD83937E}"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9FBAC9-14A0-48FC-9B32-1A0900034AC8}"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E24419-5E3E-483C-B7FC-2668A96AC774}"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D01A5F-7201-4550-B879-32A035C61DF9}"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69866E-894C-4B80-BFF4-E03AE4A16A75}"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DCB252-DF24-430F-83F1-5195A2545F01}"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E154A9-18D6-4B22-A0BC-90239B0B57DF}"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0D4779-2FF6-4C3F-A30C-233DF036FFB9}"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43022E-57B0-4007-A5F0-5C833DCD4476}"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56FE22-6B97-413A-98B4-75211B743278}"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65417F-2050-4E36-91D5-A09AE1134D0D}"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2E3B9D-82B0-4C66-AFA9-057CB4067773}"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028F46-403C-4249-89E8-2117C39C3C69}"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0E0A79-05E6-4F9B-A62D-300375711681}"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EE2172-1915-4394-9E7D-08C5B411A733}"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C59BE5-7193-4E8E-B524-A3F09385B46B}"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88B3F8-6E1B-4DF0-97F6-8F11E79FCDC2}"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0509FB5-97F4-45EF-96B4-4583974AAC21}"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A84513-F7AB-431E-BAF1-12A771DE7E9B}"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B2BB8B-AC68-43F2-A007-C64766C724B5}"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C141525-A4B2-4B67-B6CE-8A594B26B8BD}"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E06724-8198-4AB9-9F1F-A4D36555E1AD}"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B929D6-E160-4D21-83B8-E3D5525E1BA6}"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8C26EE-D519-437C-BCD6-00060A573274}"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2678E2-5335-45DB-9334-ED791E488C6F}"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D298F6-F97F-4DE7-9271-CADC5A823B75}"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ADB7BF-8E51-42D1-BA84-4FF0C965EF41}"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CD170F-DFBA-4485-AA94-94A4CF5C25DA}"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23BA631-7A47-4442-92A5-2C463E0D120E}"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755E15-01E9-4613-A6C8-540ADBF812F3}"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F4B971-F476-4C68-98FC-FFDB89E6424A}"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BB5EF1-3A6A-4039-809D-AE6CD4EF4E2F}"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8A7D14-2309-4DA6-BED6-EC019406B07F}"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A261C8-8E6D-4418-83F1-0A4B74078FC7}"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8CC8267-E36C-4127-AEBC-CF9497316C82}"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498110-9DFD-4D76-8600-86DA3C52B368}"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EE605D-07DB-4B59-ADD1-067D101BD652}"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D885DB-9637-41C0-89D4-C8479DC98A69}"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31E085-D620-4303-AF71-7E71290BF505}"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5E9F529-0D5A-4082-987F-DC39C6FEE1B8}"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2FBA3B-685A-4128-AF2E-3F73F01D1370}"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F495E8-6FC4-44C4-89C1-F10983F6725F}"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4110F0-17B7-44FF-A440-0AA5F39CDA3F}"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E8D85F-97AD-4FD9-94FD-094774E3A5DE}"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0DAE43-8333-4AD9-9A9C-3BB19E17F610}"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0863DF-75AB-41A0-BA8F-E42431A7BDE3}"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B68EFFC-FB86-4D42-B28C-7149CCE89A6B}"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925F1B-CF54-4E85-9878-93A849FA5CA9}"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8E6C1D-36A1-4D7C-AE7D-BE95F638AD8E}"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E278BB-04AD-48B6-AA42-D59DBA0462FA}"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B06CE0E-87E2-4CE9-826A-AF4BC2737D92}"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BCC50D-7E5A-453A-B5E4-A632819965D7}"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808E9CE-D311-421F-A318-EC2FC64761F7}"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B63CCA-C111-41C0-8116-67CA5E0763F1}"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E06B82-5C24-4DA7-BA80-8D063E9065FA}"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90D2E2-212D-4B0E-A8DF-2AF9D0E64CA7}"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A6AD89-5201-47AD-B1C7-5F85BBB38FCF}"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862363-60C7-4AD7-9F07-F5A340C1983D}"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BB2FD6-AF96-4C3F-9E6F-8892C946BAD8}"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7D1D23-978A-41DE-A4EA-C1769679B6E7}"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5F1C63-C6AF-48D7-8CED-B4356916C434}"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BF27C8-5264-4456-AEFA-4ACEDDD11FE0}"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4C0E9A-5C5C-4030-9822-E78A3931F521}"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EB3F01-E084-4D81-AB9A-79E1F1E25040}"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8D84C3-C7FF-44B9-ADD0-AA7A10856860}"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24477D-CB23-4CCE-81DB-4656FC6F1A6F}"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8A4DE3-8A9A-4C7E-B2DE-D93C51E1FA2D}"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7154A5-F99B-46A0-B0A6-1E7ACE0CB4D5}"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76F846C-2EF6-4C1A-A0FD-313E3D3EF5A1}"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B1A6CB-29BB-47A1-AB64-BB40DA027739}"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5AEB37-E36B-43DF-8BCC-F2FEA4A5C73B}"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F1AF6E-8B97-4E4E-B8CC-503DC82C01DF}"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908123-46DF-4034-9559-63BF439A1C2C}"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9695DD-F431-4899-9E55-4E21A02D89AE}"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3FA09E-8C4D-4F63-8198-9F2423B5A44E}"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5C325E-5439-4095-A3B2-9F31A0FA8E2D}"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8002E9-59D8-4602-818B-0B32D78E1E39}"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92B95E-DD93-4713-9403-912F87853313}"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818E3B-E860-4E62-95AE-27592FFBDAC3}"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9AF58C-AC4A-498F-A665-A9397409A8B4}"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14445B-6443-4F81-97D5-C1CBD2870EC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CA9124-A62C-4141-88F6-8803F38F55A4}"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FB1609-F7EA-4F86-9F9A-56BF621206F1}"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1F027A-EAAA-401E-8CF3-73684CC2F02A}"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EB357C-B1E6-486F-90CE-7362F761050F}"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D4E227-C8EE-4DA6-A977-A063ACC196DA}"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2BCF3D-0E39-4C38-B3D7-8DC1589E79B1}"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BB0CF4-B21C-49E9-94F4-FF49E419C2AF}"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388A15-DB28-457B-9736-E26877E6C548}"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AA598F-F759-471A-A673-4D026C32B861}"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002976-4FBC-4D48-8344-A47BA6989A5F}"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9DC237-9DA3-4E17-8FF1-74AD88E35573}"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61093E-8D7F-47AD-81D1-4DF7E59D74CD}"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7C8D16-2549-4B98-8CFF-C075D596EE16}"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081029-E989-4829-A7D7-45917D376CAB}"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26D3EA-D639-45BA-A52E-186D71A960DC}"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311E8A2-C88E-4F81-9269-385806314168}"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95D747-D586-496D-A7F1-F0CE97AD601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310BD9-345B-44CA-B372-2D860F6854A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F86F7F-CC5D-4349-AE81-01441F2BBCB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527219-D6DC-4B25-B4D4-FE57C2605BF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B7D53D-61C5-497F-ADA6-2F7A5E0EED9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D58AFF-82F0-4F0B-B402-C069A982272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63B3ACB-558A-41A3-873C-EC473FCF4B9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AA2FCA-4614-4E0B-915F-0188B877B4E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51F3A0-DC33-45E0-8049-54324EC270B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97C21E-D905-41C2-ACCD-43E10F3A6CC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2821C4-2E37-4D02-BC9D-F2711EDD44C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731DB7-4482-4615-AAA5-D0F4667C097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200A75-9950-477C-9D67-327A3513DCD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25024A-23A8-4BE1-B46D-ED851F3C340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1CD53E-D1FC-4908-9907-882A397F790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38A12D-6768-4FC4-B440-088A1E46551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C03D5A-4F11-4386-BF8D-8A53CECD934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DC1EC4-F6FF-4100-B76F-A6009025B8A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22FDF6-6B5F-4287-8F4D-9BF32E3F2E6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A8B0EF-10D3-4732-9F78-389DBC2E5EA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43B385-7EB4-4623-A6B9-DCADC751B16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E39335-1179-46C8-9909-F0F793F45B9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225A9F-129E-4296-8984-EDD35B36F60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1F4613-D7F1-46EB-B189-DE43CE5F026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AF6FB9-2828-4D23-A56F-238E86F6391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AE5363-F028-4655-9393-73EB3BD854E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40F374-216F-41C1-B712-9EAF37D41CA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D87EB6-DB0F-48EF-9EE3-6886FA0F438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B4A3A3-5B6E-4137-98FE-AA7DCA491E3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30CB00-2A1C-4785-A717-AC33AE14724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60F119-500B-45CA-B867-562DEAD4ECA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B1C48A-7FAB-40C9-9D3D-74891643AE0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A445AE-4E33-4334-8C92-EE22FF4E909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425998-4857-4DE7-A4C8-8E637C3CE44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6FAE22-11B5-4FE5-8F8F-AF4A2C1D2CA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2B6BC2-924C-42A9-9656-42E2146DF7D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C62CC3-58CD-4A2E-8A67-1DCC3F5ABB0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4D9BBE-7403-4EB2-AA61-413EBA72EE6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5E9F3E-8584-469C-9642-CD7D603F745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D5FEFC-AFF0-4983-AACE-A74B53CB8AB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2B0BEF-6116-43C9-8F45-9DA2211A11E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26C8DD-CC84-4C02-B560-808A392974F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995F62-31A6-4A2A-B6EE-7AE1A1275BE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C9D45F-8D0B-40C6-A774-F9529982C14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F17C7F-F7C4-41B7-9C7A-F6891B34A96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020D3D-53EC-4494-9DCF-2E9AA16DC5B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E9C526-066C-447A-89C6-D7B1820E5F3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94AD653-01FF-456B-9E60-457F5640CAD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2A0848-262E-44EA-8D2B-BF56CCEC925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F46F25-AA0F-44DC-A5A8-DB066A53847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B7C44A-3ED0-4A5A-9653-9392F266CA9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2DD1F6-FE61-4323-BC27-BB80AF5D05F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93891A-0ADA-428E-8ADB-D04E0098D8D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57F8F0-03A5-412D-B3CB-CECC16BAB67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372997-929A-40F8-86D7-A5C8F2AB0E9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3D0654-E575-4E2B-A696-A52B480D2CB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AA7CFDB-6AA4-4CA7-8FA1-6CDBC7E34E5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78D6E7-790C-483B-9BE0-A6927B0FEB1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809EFB-3278-486E-B634-AFACF8EFD13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F96F59-1338-4383-9ACC-4F0A1DE1F30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56B19A-9BD2-41B2-BC94-87D46B8F842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7C306B-215E-486B-8D21-4E4DCE22AC9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342B79-FF95-476E-8287-C65DFFA1906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CAFE3C-7E7D-49A7-802B-A48619A9A30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E03BBE-73F6-4DF5-B738-22C2B6CCFA6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A3D4EE-F0E1-4BBA-A225-B654C99054D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11FEAE-A126-4D28-AA5D-72AAC6E1AEA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1802FC-6C45-4F8B-941B-254D97E24D7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0D4E1A-D80B-455F-9DBA-3ADA8129397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98FDF3-B800-4B27-9D66-C56327168D4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0C9ED1-1119-4796-BA06-ED1DB7493B7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CCBF8E7-D47D-49DF-A4FF-2A0F5E41EEC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AE83A8-1D48-42F7-B518-9CA973B8DD4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9713DE-A2B9-4E4E-8EE4-C1415520E58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57FC3E-9597-4338-90EC-D5F70A18913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1E74A9-406E-4EAE-A647-B2ADF39EE1D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F852B4-81EA-464D-9455-E1CD1F33601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3F2C63-34E1-47C7-B6C3-81030113290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6D4DE2-C8C3-40B3-8E24-9209F59BF99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29714A-78B1-403C-8D2D-CB3539DEA69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F9F841-2B9D-4783-8470-D8B6D7FB585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DEB750-4162-4D85-B461-F11A347D341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BDBB0A-05EE-42BB-B15B-38420D955D7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4DDC5C-1E88-4E7A-BF97-7F0677585B4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5FF1B3-3517-47B0-A87A-3C2772BECF0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