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290910"/>
        <c:axId val="17495840"/>
      </c:barChart>
      <c:catAx>
        <c:axId val="372909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95840"/>
        <c:crosses val="autoZero"/>
        <c:auto val="1"/>
        <c:lblAlgn val="ctr"/>
        <c:lblOffset val="100"/>
        <c:noMultiLvlLbl val="0"/>
      </c:catAx>
      <c:valAx>
        <c:axId val="174958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2909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4E81-601A-4186-8550-603DE865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0E4A8-F41B-4186-BC5F-666E7BDC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CB86-8960-403D-89B1-F36A5E3B8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6938-B55F-4653-889E-E965926F0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0CE0-3654-4D91-B0ED-1D1FFFB7A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B42-305A-43BE-B39A-788B93C9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D58C-ADD7-40F3-BD26-2427C3F0A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30E1-04D4-45C9-B4BD-F6B08D7D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4484-9A0A-4301-81E5-4D212048C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165D7-0372-42F9-84ED-43EE6786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7E11-EB64-4356-9FDC-661BB812B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65D9-00C2-4D20-A50B-EF4B67EF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07DA74-2B14-46A6-976A-5EBB1FF450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