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64888"/>
        <c:axId val="59662624"/>
      </c:barChart>
      <c:catAx>
        <c:axId val="37564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62624"/>
        <c:crosses val="autoZero"/>
        <c:auto val="1"/>
        <c:lblAlgn val="ctr"/>
        <c:lblOffset val="100"/>
        <c:noMultiLvlLbl val="0"/>
      </c:catAx>
      <c:valAx>
        <c:axId val="59662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64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753-C36C-4682-9B41-9896E3D6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4F7-D965-49A6-9227-876FD4E7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A6A-BD46-4680-BFBA-E32F0DF1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3A1-7840-4ACE-9534-78CB278C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3A1-4F28-4322-9A51-A4105033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52E-4C53-4482-8FE9-DFE6E038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E5F-C29F-4DFA-BD56-C5C605CA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6A0-D601-486A-AF2F-94F7B181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E77-988E-4929-B89B-53AA5982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037-B5D9-4317-9BAF-E7EB4D0A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9A5-CB88-4C62-8BFE-55A4DCCD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59F-BF3F-43AC-A14B-CC586BDD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071C7-3333-4E0B-8EB7-9F3034BC14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