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55477"/>
        <c:axId val="56967373"/>
      </c:barChart>
      <c:catAx>
        <c:axId val="57055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67373"/>
        <c:crosses val="autoZero"/>
        <c:auto val="1"/>
        <c:lblAlgn val="ctr"/>
        <c:lblOffset val="100"/>
        <c:noMultiLvlLbl val="0"/>
      </c:catAx>
      <c:valAx>
        <c:axId val="56967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55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BA6-C7CB-40A2-A853-A9CB9511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6B8-2E05-4043-BF47-1735D357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4E5-704C-4597-A8E5-41D74BC4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1E9-8C7E-4D5E-AC05-31D92FB1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D51-59C9-4359-9C74-A0A8E09D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589-3342-43A0-A71D-F2B2E2A2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158-4D5D-4065-8077-FA49BDFA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35B-FCA5-4838-A136-57977E27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026-7EE7-4B29-BC2F-55AB918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1CC-6AD5-49EC-9775-6EF74309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BFF-6CDA-4BF5-9FA8-B03E721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722-114B-43A4-8D85-E34DC4AB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0464F-8AEE-4E70-9088-FD4B1BE1B9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