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88518"/>
        <c:axId val="67591332"/>
      </c:barChart>
      <c:catAx>
        <c:axId val="41788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91332"/>
        <c:crosses val="autoZero"/>
        <c:auto val="1"/>
        <c:lblAlgn val="ctr"/>
        <c:lblOffset val="100"/>
        <c:noMultiLvlLbl val="0"/>
      </c:catAx>
      <c:valAx>
        <c:axId val="67591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88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BBF-D590-4548-A46E-13C28E82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2C2-F0E1-4533-BB70-821039E3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FE4-1323-48E7-A013-5BE13E51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59C-B1EB-4242-86A6-5DE27BFD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E6F-3D66-454A-B520-C8E5211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C98-5B44-42FC-B8DB-E6301250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952-955C-4F20-BBAD-4FCF703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1A8-869A-43E3-8592-8B31FF79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D41-803C-4B0C-9E05-727D17B0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57F-EF4A-4081-9717-F83D30CF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E04-0419-4630-981F-B2501EE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3B2-867A-4D3C-B06C-4523832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434FF-E821-4BAA-9D9E-4BC59ABA23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