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02516"/>
        <c:axId val="66361118"/>
      </c:barChart>
      <c:catAx>
        <c:axId val="93702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61118"/>
        <c:crosses val="autoZero"/>
        <c:auto val="1"/>
        <c:lblAlgn val="ctr"/>
        <c:lblOffset val="100"/>
        <c:noMultiLvlLbl val="0"/>
      </c:catAx>
      <c:valAx>
        <c:axId val="66361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02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49D-DCC9-4E33-86DA-716CF60D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D27-DEC8-4175-9D13-F5790B30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C3F-102B-4D51-A25D-35672300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BB9-7201-4E0D-BEEE-B60E14E2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58E-6826-4AAD-BD25-AE669C55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2CB-9C4D-4139-ACD5-327D52C1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EB4-6E37-4F72-95BB-759BE278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0FB-A133-4C64-B654-9A407FFD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C17-A587-41EE-9B41-691838EC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FE3-E2F9-4843-AD06-F21486D3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B85-4176-4484-8A60-61AF9A48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DF7-0FBE-4095-9330-9744C46B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C5296-F984-44C6-9371-1781395AA1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