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974882"/>
        <c:axId val="32530634"/>
      </c:barChart>
      <c:catAx>
        <c:axId val="279748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30634"/>
        <c:crosses val="autoZero"/>
        <c:auto val="1"/>
        <c:lblAlgn val="ctr"/>
        <c:lblOffset val="100"/>
        <c:noMultiLvlLbl val="0"/>
      </c:catAx>
      <c:valAx>
        <c:axId val="325306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748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5B95-3449-4E9A-97DC-E8C430DDB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1A56-418B-44DE-9AE9-AA5A66C0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16B1-B52B-4282-AA4E-391E73EB4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A729-93A7-452C-90D4-9023BC516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3201-17BC-4A8F-9B44-711A996A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3C5F-03AB-45F4-B5C3-4807687B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36C9-2D0B-4D25-98D4-4D4F3ED6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B60A-0867-4990-8EE4-6F14CC51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F8FE-8FD7-4B90-87AB-7675EFA7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7B82-93D8-4B3B-8536-06CE02B6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A4EA-061D-4E33-BB69-E3E3B0F2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5141-50E3-41BA-8167-4A126E2D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2D20A-F8CC-409A-82E2-64D5E8BB37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