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0569"/>
        <c:axId val="93292153"/>
      </c:barChart>
      <c:catAx>
        <c:axId val="4100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92153"/>
        <c:crosses val="autoZero"/>
        <c:auto val="1"/>
        <c:lblAlgn val="ctr"/>
        <c:lblOffset val="100"/>
        <c:noMultiLvlLbl val="0"/>
      </c:catAx>
      <c:valAx>
        <c:axId val="93292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065-1EFC-4C89-9733-A688E551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CBB-8BF4-4F4C-A44C-3C0E141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41D-CF29-4271-98DF-75B66399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CF5-6491-486B-80F2-FFF028F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DE9-30F9-4F31-B887-D6A92A4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08D-3032-4604-AF11-F9D9742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233-A18B-43A5-B19B-64126272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B7B-EE2F-488B-AE27-0007B17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347-0EC9-4FF3-8DE6-C56C16C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78F-037A-4600-8674-C53B286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376-1AD9-4B73-9DC1-FBDCA8B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51D-2908-4D60-8A94-FF9AFCC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A9366-B9B2-47D2-831A-85D21FB75B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