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17437"/>
        <c:axId val="4955634"/>
      </c:barChart>
      <c:catAx>
        <c:axId val="58517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5634"/>
        <c:crosses val="autoZero"/>
        <c:auto val="1"/>
        <c:lblAlgn val="ctr"/>
        <c:lblOffset val="100"/>
        <c:noMultiLvlLbl val="0"/>
      </c:catAx>
      <c:valAx>
        <c:axId val="4955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7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DA0-75FA-4CEC-8962-6082F438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8D1-FE77-4C2B-A44E-5B98184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4BB-E99C-47E9-B67B-1F295C27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290-3D66-4FC5-9ED6-02EAFFD7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89E-7331-47C9-9CCD-43CE6CB6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2FC-DA92-428E-A968-601A4B9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15A-E5A7-4A60-8453-195C043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2FF-D9C3-4EF4-B044-C2497DB5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7DF-3D58-4AFE-BE72-0431219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C13-C054-46C7-86FE-6447D57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9BC-CC77-48B3-9729-E1B6491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751-881D-4B11-AEEE-105A598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AD109-FDA6-4950-A5D6-7B6D594D5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