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216568"/>
        <c:axId val="40052904"/>
      </c:barChart>
      <c:catAx>
        <c:axId val="52216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52904"/>
        <c:crosses val="autoZero"/>
        <c:auto val="1"/>
        <c:lblAlgn val="ctr"/>
        <c:lblOffset val="100"/>
        <c:noMultiLvlLbl val="0"/>
      </c:catAx>
      <c:valAx>
        <c:axId val="400529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16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785-3C06-40B1-B0A9-0E17C17D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583-4C8F-4663-802E-B31D56A6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B30-8679-4992-8B5F-895AD09D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BCD1-B798-4F4A-9C14-73D665B0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29D-213B-4AAB-9E66-78FAC7CC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D9B-98DA-4358-B424-18A69A45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3B3-CF37-4CC4-9140-BB16392E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9EA-E5CB-45E4-B084-2D03720D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D4E-438B-47E9-B15C-E7DFE73A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DD4-AC89-4764-8793-04FFA246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CBE-C536-4D92-8253-628DCE8B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DB0-50C1-441D-9218-78EA1DB4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D9111-E9FF-42DD-A857-1E03DEF9F6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