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546127"/>
        <c:axId val="17171734"/>
      </c:barChart>
      <c:catAx>
        <c:axId val="405461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71734"/>
        <c:crosses val="autoZero"/>
        <c:auto val="1"/>
        <c:lblAlgn val="ctr"/>
        <c:lblOffset val="100"/>
        <c:noMultiLvlLbl val="0"/>
      </c:catAx>
      <c:valAx>
        <c:axId val="171717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461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1E9C-296F-4B6D-A36E-1DBEA3D4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00A1-D014-49C2-A1CB-24D3DAA2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E2FE-9A32-42B7-ACDC-2CB07487C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7EF5-366D-4C08-8C44-21280D94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DD9B-7E4C-4D53-AE7E-3C6E766E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F068-7F1C-40FC-8A7B-642D0AA5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23B1-C223-474A-8C26-2ECBC366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1307-2662-4C58-A3E8-72226C8C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8B41-8BBF-4041-B8BE-BF1E58B5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E52D-A89F-46C1-BB36-B9E7D139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CBD2-F13B-4971-8CC7-2AAF28F2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0402-2A0A-4411-9C98-D4B0947D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B46B8-2047-42A7-89DE-99810E69D9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