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44506"/>
        <c:axId val="72486401"/>
      </c:barChart>
      <c:catAx>
        <c:axId val="30044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86401"/>
        <c:crosses val="autoZero"/>
        <c:auto val="1"/>
        <c:lblAlgn val="ctr"/>
        <c:lblOffset val="100"/>
        <c:noMultiLvlLbl val="0"/>
      </c:catAx>
      <c:valAx>
        <c:axId val="72486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44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F31-C565-4705-9DF4-1186A76A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6F9-CD32-4FB2-B373-0491FC55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2A0-5BA6-4CE6-8709-8277D9E0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F76-2A9C-40B8-8754-AFCFF344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839-88A7-4252-9069-CFEDDE72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700-C364-4C33-9587-727F89B0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C4B-7300-4C5D-B58C-5081A50F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C7C-8E1B-4687-A6A8-FA44E684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BB8F-41BD-4B73-84E7-993110BC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A43-8ACA-4C2B-ABFB-6A66096A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43B-4E11-4292-8871-16D89FD2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AC8-B703-4CD0-B8E9-D9D8CD56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908A6-5462-4E16-8FE3-D8485B5BF2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