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265409"/>
        <c:axId val="26433285"/>
      </c:barChart>
      <c:catAx>
        <c:axId val="71265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33285"/>
        <c:crosses val="autoZero"/>
        <c:auto val="1"/>
        <c:lblAlgn val="ctr"/>
        <c:lblOffset val="100"/>
        <c:noMultiLvlLbl val="0"/>
      </c:catAx>
      <c:valAx>
        <c:axId val="264332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65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CEC6-FC37-4BEA-AB6E-16C85960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098-3002-4FA8-9B52-C6F75535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0CE-35EC-44E0-B9EB-D128C292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17B-5972-4857-B976-C998AF87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1F2-2462-4704-8CE8-EFBCB33E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C22-311E-4978-B37C-0DD8560F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7AE-485B-4CC2-A4D3-EC630D9E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EF9-F661-4FD1-881B-C56DBA5E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034-1C0C-4A2B-8D3D-732AC4E3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406-692B-470E-A15E-60FE0D5B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F440-467C-498A-8C13-20B5FF3B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8CAA-48AA-4700-B7EB-C3086C3B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4DA90-44A6-4BD6-ADE3-7141EDC139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