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35263"/>
        <c:axId val="36036969"/>
      </c:barChart>
      <c:catAx>
        <c:axId val="17235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36969"/>
        <c:crosses val="autoZero"/>
        <c:auto val="1"/>
        <c:lblAlgn val="ctr"/>
        <c:lblOffset val="100"/>
        <c:noMultiLvlLbl val="0"/>
      </c:catAx>
      <c:valAx>
        <c:axId val="36036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5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8CD-E883-438E-AFF6-45C52165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9EB-6E88-48F5-8E9A-589EF90F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006-7C3E-400E-AB91-CBFE4F6C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DA0-6219-4DE9-B295-BBD5A963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EB8-EA71-4CA8-B04D-520AA1D0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91E-3BC7-493A-B4CD-5FBC1FCD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CCC-AF3A-4C9A-95F2-BDCEBFE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930-32E7-4798-9D5C-A862BA9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972-0C33-4978-9D43-EBF5F654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79E-49B3-408E-A1D4-79D7E88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C6C-351B-4D1C-A2C6-186FC501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A26-6B27-4426-9626-10A3DA3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46C81-C46A-4CDC-A5A1-7F3CB2528F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