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14523"/>
        <c:axId val="92743689"/>
      </c:barChart>
      <c:catAx>
        <c:axId val="21914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3689"/>
        <c:crosses val="autoZero"/>
        <c:auto val="1"/>
        <c:lblAlgn val="ctr"/>
        <c:lblOffset val="100"/>
        <c:noMultiLvlLbl val="0"/>
      </c:catAx>
      <c:valAx>
        <c:axId val="92743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14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221-4A4A-4924-85C1-186F6C25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81E-FB25-4BD0-A882-0F029370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CF7-C0EF-421F-853F-111DFD7F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FDC-45AA-4C85-A6EB-3FA90276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43F-F3F3-47D4-9A6D-870BED4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592-C1F0-4E18-A2E3-1599DB2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856-96A1-473A-88CC-2E68A03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A93-F17E-47FC-9ED2-02C230C1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7DC-C51A-407C-B03A-7672045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D2A-78DA-4CF2-8CE3-EAE3C91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7A2-8F7F-4A7E-B250-B44DD617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D92-12D7-4017-AEAE-5221A00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2E1E1-5886-4CE4-8A73-BF773CE92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