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14054"/>
        <c:axId val="10940295"/>
      </c:barChart>
      <c:catAx>
        <c:axId val="31214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40295"/>
        <c:crosses val="autoZero"/>
        <c:auto val="1"/>
        <c:lblAlgn val="ctr"/>
        <c:lblOffset val="100"/>
        <c:noMultiLvlLbl val="0"/>
      </c:catAx>
      <c:valAx>
        <c:axId val="10940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4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567-B910-449A-9C63-8EBD2EA0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4EA-4496-449B-910D-48E79C6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FA4-E9CA-4773-A46A-A4D1F1F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144-D96D-4175-8232-D3FBEFAA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43D-3541-44A6-BD5D-2AF1DA7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A11-8E73-4761-8D3E-3A3F49A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7C1-6840-4CDA-A778-A747ECEF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0EB-83F2-43A0-B77B-D90DD8DF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6B7-BAE7-407C-BBF6-3023AFA8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995-FB16-4DCB-A442-3CF1138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F32-C791-44A4-BD7C-E114B04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7C5-28B5-4CDD-8251-D3F719B8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E4EEB-A895-4543-BCF8-2C0B0A123A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