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71158"/>
        <c:axId val="14771451"/>
      </c:barChart>
      <c:catAx>
        <c:axId val="27171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71451"/>
        <c:crosses val="autoZero"/>
        <c:auto val="1"/>
        <c:lblAlgn val="ctr"/>
        <c:lblOffset val="100"/>
        <c:noMultiLvlLbl val="0"/>
      </c:catAx>
      <c:valAx>
        <c:axId val="14771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71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D5B-3663-4A82-887E-D3E2865F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88C-EE7A-46BB-AB23-1BE2F18D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B53-DB64-43ED-9D9A-C40F8D20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D37-BC5A-4B0D-B833-16371943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F19-D7A1-482D-8072-C2DB4D1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BB5-0C32-4FDD-96FC-765ED43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0B1-89C2-4B16-974B-AB9B4A4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5C6-0152-41D4-BA54-03294733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13B-FE86-4D1A-B537-E2CCBBD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6B7-ADDF-4D51-85BC-22B5593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62A-7FCC-44E8-98A1-B9145CB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6B8-F232-491C-8E59-0238AA6F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A485A-9B32-436C-BCE3-E9BF8B2AE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