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49918"/>
        <c:axId val="49821955"/>
      </c:barChart>
      <c:catAx>
        <c:axId val="26949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1955"/>
        <c:crosses val="autoZero"/>
        <c:auto val="1"/>
        <c:lblAlgn val="ctr"/>
        <c:lblOffset val="100"/>
        <c:noMultiLvlLbl val="0"/>
      </c:catAx>
      <c:valAx>
        <c:axId val="49821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49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7BB-C9BF-4AA5-9876-D5D6D04E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8E7-D8B5-43F1-A1D2-9B878E81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021-FE0C-46FD-8CAE-FCB8A75A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C32-AAFE-4606-8215-6AD3B655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F59-9D5C-44AE-ABDB-5CD272C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08C-027C-4520-86EC-A18CBF04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5CE-9F37-4790-8761-29780091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2B5-FCF0-4B9B-8B8D-7CD6C4C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D15-A9F8-43CB-BCF4-8B032ABA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87A-FC21-45D2-91C2-907E086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E11-D892-4F13-AC4C-E1CBCFD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BB5-AF76-48AB-83EF-3B62782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B156A-C406-4470-B733-99FF1EC24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