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8165292"/>
        <c:axId val="66101680"/>
      </c:barChart>
      <c:catAx>
        <c:axId val="9816529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101680"/>
        <c:crosses val="autoZero"/>
        <c:auto val="1"/>
        <c:lblAlgn val="ctr"/>
        <c:lblOffset val="100"/>
        <c:noMultiLvlLbl val="0"/>
      </c:catAx>
      <c:valAx>
        <c:axId val="6610168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16529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1B28D-9322-40E0-970F-762847066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EFEA3-AE14-41FF-956F-6BE036121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7FC91-844E-4DD8-840F-271EAF24E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EBC65-AD1D-4C8F-A616-D8F651CAF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6AFB2-E149-49FA-BF04-8553D2B88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CB627-996B-467C-93DB-5F5564766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69F1C-C43B-40BA-BE73-5F6B42170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E208C-F867-41AE-934E-944077132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5B052-2DE0-4025-B9ED-B8D1A68D6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B1297-A207-46EB-9E1F-2AB4D1E90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9A8B9-C9F4-4AEE-82E9-9F2C9B90D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5F25E-CBDC-4E5F-B5A9-3078A884B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4FC05C-F692-4850-8927-98F274ADB6E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