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4768"/>
        <c:axId val="67079307"/>
      </c:barChart>
      <c:catAx>
        <c:axId val="2584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79307"/>
        <c:crosses val="autoZero"/>
        <c:auto val="1"/>
        <c:lblAlgn val="ctr"/>
        <c:lblOffset val="100"/>
        <c:noMultiLvlLbl val="0"/>
      </c:catAx>
      <c:valAx>
        <c:axId val="6707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4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578-EFBF-4068-A69C-FC996B9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B40-9588-471C-8A5D-ABCEE4D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6BA-D1C6-4E3C-8DBC-42BB0290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AA7-481F-4CE8-895F-7E458F1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F68-5A94-4EA3-853C-CA894AC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AF8-3764-4029-83AD-497837C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7F7-3470-404A-A8B9-2675E29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930-40EC-4528-9E0C-3E3AD5AE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FC3-8D62-4AB8-B1B9-EBA1B5DD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824-4579-43B4-BF35-6355FB9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908-B861-4787-9923-F49D7E27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B0D-6A88-4F89-B6F4-869595E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3C39-A3E2-4918-9CC7-47A60F6C8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