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53380"/>
        <c:axId val="5453892"/>
      </c:barChart>
      <c:catAx>
        <c:axId val="980533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3892"/>
        <c:crosses val="autoZero"/>
        <c:auto val="1"/>
        <c:lblAlgn val="ctr"/>
        <c:lblOffset val="100"/>
        <c:noMultiLvlLbl val="0"/>
      </c:catAx>
      <c:valAx>
        <c:axId val="5453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533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FF23-69EB-4A77-82DB-746A2C71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403C-A235-407A-965C-BABB366E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B25-25B2-4519-99D0-545F4DCF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7AB-124D-4D69-BA3A-4C39D0A4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796-52AA-4D46-AEE7-5D3F002B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07D4-3AFE-4C95-B938-E335B464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0C2-296F-4181-BD83-B98026A6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D52-18FE-48F2-B86C-D6DBB372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21B-45F5-49E3-B313-7538EE19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376-0D5F-4124-8033-2B513191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3C5-7848-44B8-9780-3AB4C8F5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AE4-8961-4DDF-8CA9-FE8AD286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C2149-B32E-400C-B018-A0D1BF4D77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