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00576"/>
        <c:axId val="9173135"/>
      </c:barChart>
      <c:catAx>
        <c:axId val="94500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135"/>
        <c:crosses val="autoZero"/>
        <c:auto val="1"/>
        <c:lblAlgn val="ctr"/>
        <c:lblOffset val="100"/>
        <c:noMultiLvlLbl val="0"/>
      </c:catAx>
      <c:valAx>
        <c:axId val="9173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0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7E7-5826-40A6-8453-920F2305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3B5-CD99-4944-8125-C6D07F93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170-7667-461C-B13A-9BABCA9B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5AC-6BAB-4088-A01D-5BF16B81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3C4-552B-41F4-AF2B-A922820D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526-66BE-4864-9BF0-C2032F7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BF4-753D-429B-ABF5-2ED1801C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85A-C1C2-4AE2-B655-AD08C035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3F3-998F-4870-9BFF-EB0E1340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05F-74EB-45DC-BF2A-14391A2D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41C-B602-41D5-9F93-3B14B68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16B-4671-4277-97E2-7A1ED4F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AA8EC-0DBA-43F7-AA02-65413D3E6C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