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78227"/>
        <c:axId val="63334726"/>
      </c:barChart>
      <c:catAx>
        <c:axId val="63378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34726"/>
        <c:crosses val="autoZero"/>
        <c:auto val="1"/>
        <c:lblAlgn val="ctr"/>
        <c:lblOffset val="100"/>
        <c:noMultiLvlLbl val="0"/>
      </c:catAx>
      <c:valAx>
        <c:axId val="63334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78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C38-D264-46C6-8E57-09D06A48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FC3-99A6-45CE-8885-CA18DF4D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957-ACFE-415C-A83D-C4F32709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732-AA01-4CB5-AE9B-61221D04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E75-2B17-408E-A09B-E366681F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6F4-9B9D-4307-8D54-92A908A1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E39-6CDC-401B-B604-AADBFA8C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851-DFC3-4C3C-897E-8B79050A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5FD-3633-4EBA-88C8-36A6E8C3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801-55C2-4562-A138-64B6C24C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B6A-9143-483E-9FA2-A5CD017D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379-442A-481D-AA8F-E419F232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E930E-90F4-4E8D-BCCD-8BB91DC51E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