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6256409"/>
        <c:axId val="36965802"/>
      </c:barChart>
      <c:catAx>
        <c:axId val="1625640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965802"/>
        <c:crosses val="autoZero"/>
        <c:auto val="1"/>
        <c:lblAlgn val="ctr"/>
        <c:lblOffset val="100"/>
        <c:noMultiLvlLbl val="0"/>
      </c:catAx>
      <c:valAx>
        <c:axId val="3696580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25640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8E2A6-7CDA-4B0B-B884-2ADE9E401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6F8C6-798F-4317-B765-48EC1B83E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4B806-FED8-481E-B506-6BDCECAE3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813FB-E0D0-4DAA-9F94-2C4776AE5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DD349-F799-40B2-9AB4-548E2B02F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DF931-E37A-47D5-B580-B841AADBB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88CF7-F076-436D-955F-9B8966655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7BFB5-C915-4F6A-A684-A3B78DEE8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2E895-3936-4409-B3EC-738D09794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814FA-F81B-43B4-9002-6879F26FF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BBF09-AA1E-46E1-A2B6-0115CA6B4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0572A-5301-422C-A576-60CAC6427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B78CE1-9DD2-4347-BFA8-5A3CA7A75A5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