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48504"/>
        <c:axId val="53480149"/>
      </c:barChart>
      <c:catAx>
        <c:axId val="48148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80149"/>
        <c:crosses val="autoZero"/>
        <c:auto val="1"/>
        <c:lblAlgn val="ctr"/>
        <c:lblOffset val="100"/>
        <c:noMultiLvlLbl val="0"/>
      </c:catAx>
      <c:valAx>
        <c:axId val="53480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48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F40-386F-45FE-A608-B3BC610D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CEB-9E39-4AF2-9CB6-385C15A8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F5D-845B-4987-BF1D-1544AC8C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905-A1E1-4EFA-861A-54346142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F35-1676-4A1C-A3E9-401DCDBC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BC8-67D0-46F1-B581-096C53B5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805-138B-4999-9012-ED69E490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EFB-0B4B-4C4B-973D-D8AF4815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E1B-5F9A-437A-87FC-C23CDAE6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CA9-0B37-475A-BA37-7E7E0FA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7E6-7916-41C0-86FC-1109F967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C55-2BED-45E0-B30C-D4E695BE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FB761-8956-46B2-B623-771DDE5BDB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