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51652"/>
        <c:axId val="12323678"/>
      </c:barChart>
      <c:catAx>
        <c:axId val="35851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3678"/>
        <c:crosses val="autoZero"/>
        <c:auto val="1"/>
        <c:lblAlgn val="ctr"/>
        <c:lblOffset val="100"/>
        <c:noMultiLvlLbl val="0"/>
      </c:catAx>
      <c:valAx>
        <c:axId val="12323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51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C7E-461A-4D11-A2F0-95240BFD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005-36D3-4FC3-BB18-A85A92EF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621-ABEF-4CC6-959D-35F7FCBE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7E0-4F76-43A6-9F52-C285F775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507-F5F9-4E44-AB86-E4202108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713-FF87-43DA-96E8-7E87883A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470-9049-4BC7-BDBA-6F08C2D5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495-D30C-4EB7-AB29-921A9527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941-75FB-4477-8F20-02B14E17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428-29D6-4E70-A2FE-2964ABF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5E2-4EE9-4DFC-A1D0-9267AF5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7E0-7A33-48D3-97B8-882CD8CA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0657F-CB09-49D9-8721-4A9B572179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