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52005"/>
        <c:axId val="65842486"/>
      </c:barChart>
      <c:catAx>
        <c:axId val="68520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842486"/>
        <c:crosses val="autoZero"/>
        <c:auto val="1"/>
        <c:lblAlgn val="ctr"/>
        <c:lblOffset val="100"/>
        <c:noMultiLvlLbl val="0"/>
      </c:catAx>
      <c:valAx>
        <c:axId val="658424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520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31D2-2B01-4B41-A421-CAB660C12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81B3-DBC2-4347-9E2B-722378D24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CF99-7064-43DE-966C-E3AC7B31C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F6D8-56D6-4000-9735-4A9478085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2EA4-9185-4976-A5F3-B37BFA15A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8902-2A86-43B1-9D32-315583E70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A642-88DE-4112-A8A9-F52BDBA71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B820-004B-4608-BCF9-88B71ED1E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6E3A-88AE-4409-B896-D4B5676E1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ADB2-2083-4340-BED0-51D7676D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491E-E2E0-4A35-93B3-4DB02D5B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5FBD-2744-4790-B497-23141EC5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EAB8FB-DCAF-4257-AB3B-25C2C8B140E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