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20911"/>
        <c:axId val="29091367"/>
      </c:barChart>
      <c:catAx>
        <c:axId val="48320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91367"/>
        <c:crosses val="autoZero"/>
        <c:auto val="1"/>
        <c:lblAlgn val="ctr"/>
        <c:lblOffset val="100"/>
        <c:noMultiLvlLbl val="0"/>
      </c:catAx>
      <c:valAx>
        <c:axId val="29091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20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DC6-A679-47CE-A4D2-72F742CA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C0F-8BEF-40B7-B536-59E132CA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7E2-FBF7-442B-93B8-AA22D0FD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F1B-51BF-48DD-BE9E-BE91E6E1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38B-1EF4-4F97-B888-8394B602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924-2742-44B9-AFC8-C3297976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CFC-E1D3-4A32-ADE4-D289D651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BD4-BA66-4BC6-9C8B-53DEF1F4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099-8E26-454B-9277-FECF204F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9C8-755F-4EF1-8963-A8097596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2AB-0B61-4E63-8B67-D315F6C6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7E1-D28E-40B7-BD51-6782C835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2E14F-0C78-4876-A3CA-DD1B52B580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