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704975"/>
        <c:axId val="76049796"/>
      </c:barChart>
      <c:catAx>
        <c:axId val="267049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049796"/>
        <c:crosses val="autoZero"/>
        <c:auto val="1"/>
        <c:lblAlgn val="ctr"/>
        <c:lblOffset val="100"/>
        <c:noMultiLvlLbl val="0"/>
      </c:catAx>
      <c:valAx>
        <c:axId val="760497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7049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D233-7C8E-4CC8-A429-3B31A1A7A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F9E1-2FDC-4C09-831F-E78DD7C7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C66F-7E73-41F0-831B-2CE043912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655C-7A19-4E6C-8816-E23CD1AD0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4DB8-A069-4E25-93E3-0BDF32B3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AD28-7EA9-43DA-91AD-AEB4D6DA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2CE2-B112-4227-B906-0A7AA467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6128-2274-4B08-B454-900F3CA2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D208-4B4D-4AF4-A793-9E7883BE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572B-17DB-4400-BBBF-57940E4F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5570-1D1E-403E-9707-06D70F34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AD55-1958-4CBE-BBA6-96D5AD89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9D1F33-72DB-4B29-9780-598C6361ED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