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550894"/>
        <c:axId val="45065782"/>
      </c:barChart>
      <c:catAx>
        <c:axId val="445508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65782"/>
        <c:crosses val="autoZero"/>
        <c:auto val="1"/>
        <c:lblAlgn val="ctr"/>
        <c:lblOffset val="100"/>
        <c:noMultiLvlLbl val="0"/>
      </c:catAx>
      <c:valAx>
        <c:axId val="450657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508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2C91-777F-4EA3-AE49-365627DD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443E-12F9-406F-B3B0-CDFC9343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4824-A30F-474D-A3D7-C8FD1E52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63D1-A055-4B35-AF60-5F19E885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3AA2-849D-4021-9F46-D59F5F421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69DC-03BB-4E16-A7B8-347D1F55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462D-6938-4C60-B156-5EBFD23F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1A39-968B-4C55-ABF0-7349B2C3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2430-E7A0-447E-8A6A-DB19D3A4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BA0E-36F1-4F45-B38F-E15CF0A7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E52F-2172-43E5-AC68-5F6CE83C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6B7F-786F-4B2E-A378-04151FB3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40A93-1704-4DB8-A11F-92D3AA1249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