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41399"/>
        <c:axId val="17707049"/>
      </c:barChart>
      <c:catAx>
        <c:axId val="71413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07049"/>
        <c:crosses val="autoZero"/>
        <c:auto val="1"/>
        <c:lblAlgn val="ctr"/>
        <c:lblOffset val="100"/>
        <c:noMultiLvlLbl val="0"/>
      </c:catAx>
      <c:valAx>
        <c:axId val="17707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13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04AB-8B44-48A9-8CC7-C35D8116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8990-11AA-4CDC-B47B-BAD8DDB0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1D5B-DB8E-4825-A6FC-21CFF5C3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74C-2B84-4446-A4EB-5135486A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1BAB-A7C5-486D-96F0-94AC2C1E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0E3-7814-4D35-884D-6E50AFEF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5F3B-EEFB-4EF0-84A0-93A2C2E4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C013-D281-4E48-BBE7-CC176A35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07E5-375F-4530-AF7C-61A17756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EAF1-FF78-41D3-AA0F-88AD4531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5973-61D1-4500-849B-3DE34B9C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FE64-CDB4-4F88-B935-FF737EED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1E46B-4EF8-4AE7-A123-A4D88AE238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