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774593"/>
        <c:axId val="84058170"/>
      </c:barChart>
      <c:catAx>
        <c:axId val="317745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058170"/>
        <c:crosses val="autoZero"/>
        <c:auto val="1"/>
        <c:lblAlgn val="ctr"/>
        <c:lblOffset val="100"/>
        <c:noMultiLvlLbl val="0"/>
      </c:catAx>
      <c:valAx>
        <c:axId val="840581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7745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15CF-104B-45C2-A22E-D9DD436D0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2981-6481-4989-A016-B066CD31C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CA42-FBC4-4047-A488-AA3850E49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26F2-4AAE-45D7-AF79-C665872FC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3486-9508-44ED-B2BC-564A207FD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6B3A-39DE-463D-AA8C-FFD626F63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17B9-0E62-4AB0-81A9-F95E0ED33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AFF4-472D-4E2D-9895-FA1F4DC38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EB2A-580E-4388-A0D5-750509BED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EDD2-6EF2-4773-8217-89E67C02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90BE-B2F4-40FE-AABA-2DF0B596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9238-CB8E-4B47-883D-B54CDB27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DB092C-1605-4C25-AF44-80BAE1C362B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