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70686"/>
        <c:axId val="21276361"/>
      </c:barChart>
      <c:catAx>
        <c:axId val="77370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76361"/>
        <c:crosses val="autoZero"/>
        <c:auto val="1"/>
        <c:lblAlgn val="ctr"/>
        <c:lblOffset val="100"/>
        <c:noMultiLvlLbl val="0"/>
      </c:catAx>
      <c:valAx>
        <c:axId val="21276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70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B77-0BB0-4D0C-92D3-85EDF547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657-9BF7-4319-BA88-A3C32693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3CA-22D7-45B3-84AB-373CCC17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5CA-8426-4B76-A85F-B8AF11E0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936-3E42-4995-BA6C-39304BD0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CE4-1DED-43FB-9559-04EEFEDD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C68-6A96-4CC1-A4C2-80C9D55C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EC82-BAE4-4294-AB77-1E55BCBE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16F-A8B8-4A96-B1B7-267A224F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939-C048-4BB3-A5D9-49453E07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ABB-B05D-431D-8B85-990BE6EC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B5B-C5A8-4744-82A3-5E30815E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B7B4F-2F2A-4FA0-BFB0-B1C0991CA1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