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739933"/>
        <c:axId val="64800344"/>
      </c:barChart>
      <c:catAx>
        <c:axId val="837399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800344"/>
        <c:crosses val="autoZero"/>
        <c:auto val="1"/>
        <c:lblAlgn val="ctr"/>
        <c:lblOffset val="100"/>
        <c:noMultiLvlLbl val="0"/>
      </c:catAx>
      <c:valAx>
        <c:axId val="648003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7399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FB49-AE03-4EE0-8821-907B80F8A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B819-7C99-437C-940F-B4CD9836C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4417-0452-45A3-892E-8DC547142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79BC-D9D2-441B-A53B-8A693ED35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49AF-52F3-4A8F-B9F5-C3DA191F5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0680-FA71-4941-87A4-530E01111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92AA-CA3C-48E5-96CF-B6ECA5DC4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04ED-D22D-4296-BA93-420FF79FB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B30F-487E-4D1B-A266-B4D0FB336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6F9B-3B69-404C-A6BD-81EE6FA7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1C72-6798-4B6E-97C1-7BD0842E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ADE8-41FB-4941-AC11-ACE0D108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232EC5-92B3-4D94-B911-2587056C7FD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