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63137"/>
        <c:axId val="68495533"/>
      </c:barChart>
      <c:catAx>
        <c:axId val="32963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95533"/>
        <c:crosses val="autoZero"/>
        <c:auto val="1"/>
        <c:lblAlgn val="ctr"/>
        <c:lblOffset val="100"/>
        <c:noMultiLvlLbl val="0"/>
      </c:catAx>
      <c:valAx>
        <c:axId val="68495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63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8CF-7CE5-46EF-9798-BD87D98E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474-E2E4-4523-A582-7D32379B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A3D-E0FC-47CA-8983-991F4C1E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95D-E666-4A5D-8CB4-303B480A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3ED-847C-4FB5-AD22-B2926CDC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2CE6-43C9-463A-B07B-E7624307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2F6-9C6F-4FE0-9189-731B3750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754-27B1-4D78-8825-299B2665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799-ACB1-4512-9C8B-4775CB9E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8BE-EEC6-4C7E-9B20-BEB014FA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077-203B-4009-B2E7-B1CBD736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0F4-1DDA-4D51-85C9-42B65278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94451-0018-420A-93FF-CA07BDBDCF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