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71033"/>
        <c:axId val="21103492"/>
      </c:barChart>
      <c:catAx>
        <c:axId val="622710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03492"/>
        <c:crosses val="autoZero"/>
        <c:auto val="1"/>
        <c:lblAlgn val="ctr"/>
        <c:lblOffset val="100"/>
        <c:noMultiLvlLbl val="0"/>
      </c:catAx>
      <c:valAx>
        <c:axId val="21103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710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CD7C-34CA-411C-82FF-83AFB07A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E7FF-575D-4380-A53C-CFFFE4FA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C30-390C-41E4-8AAB-87BAC78F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25E-1DC5-4AFF-A371-40D6B0A7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058E-C260-447E-9D53-20B14B3C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ED0-6EDE-4088-8102-4F821CCF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69E-EDCA-4DB2-9D15-A75343F0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0445-CA25-4D82-8A9A-B3E86354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0626-8363-4E47-929C-4950DF39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9E7-9F21-48EA-BE58-DF2BCFE1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051-6FF2-411B-8073-F70A4CC1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6B27-126D-4C47-856A-CC6C7CFF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1D652-AD2C-42FC-8B97-5F22660F80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