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4973"/>
        <c:axId val="60466240"/>
      </c:barChart>
      <c:catAx>
        <c:axId val="88354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6240"/>
        <c:crosses val="autoZero"/>
        <c:auto val="1"/>
        <c:lblAlgn val="ctr"/>
        <c:lblOffset val="100"/>
        <c:noMultiLvlLbl val="0"/>
      </c:catAx>
      <c:valAx>
        <c:axId val="60466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4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8AE-4A5D-4B71-B456-3EF8248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9B9-99DB-471D-B142-19C35AE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921-52C5-412D-B564-14AD748D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290-BE2A-4E52-88CD-C9C6CCD0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672-C71B-4F36-8025-065BE149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093-FA2D-40A7-B473-C68A04C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1BB-D59A-43B6-B1EA-249E5E6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456-34C1-4193-8765-3B99A586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3C0-0AC1-4F9C-BDEC-1FDE1D5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A7A-AC0A-4BCD-862A-6C0435D1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FAB-7EC0-43C0-9C1E-53E5091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989-140D-444B-A1AD-B13496E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1F27-4173-43E3-AE46-925691CB5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