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32942"/>
        <c:axId val="96593833"/>
      </c:barChart>
      <c:catAx>
        <c:axId val="22232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93833"/>
        <c:crosses val="autoZero"/>
        <c:auto val="1"/>
        <c:lblAlgn val="ctr"/>
        <c:lblOffset val="100"/>
        <c:noMultiLvlLbl val="0"/>
      </c:catAx>
      <c:valAx>
        <c:axId val="96593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32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028-9778-4828-BA0C-4B6AC567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5CDF-DD0C-47F7-A19A-4342905F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A9C0-9B7E-4E04-A179-7F8AAD06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E79-F50F-42D2-AA57-12D27F17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7771-22DA-4307-BC4B-39D7316D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CB5-83BF-4F8A-B305-8BB12D5B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FC2-CE4F-4EA7-80D2-C2DB9C1F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7C09-C263-47A4-A207-62DB1007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78C-9BFC-425D-A34D-40ECB25C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C8C-AF1F-4342-BBB6-0BDEE150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0507-48A2-4943-81B0-F95BFB5D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D06B-0997-4E81-8635-0958A0C1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1F520-69BC-45C4-872C-026D5BF8B5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