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66601"/>
        <c:axId val="29346165"/>
      </c:barChart>
      <c:catAx>
        <c:axId val="84366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46165"/>
        <c:crosses val="autoZero"/>
        <c:auto val="1"/>
        <c:lblAlgn val="ctr"/>
        <c:lblOffset val="100"/>
        <c:noMultiLvlLbl val="0"/>
      </c:catAx>
      <c:valAx>
        <c:axId val="29346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66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824-E5B8-4E4C-9141-E10089A1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9A1-E845-4713-B90D-882690B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420-6493-4470-AB99-A483DB6E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15F-608A-4908-AAAC-70B9A3BD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370-3AA2-4019-A4B3-A26D632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CEA-84CD-4FFE-946B-56CA2B4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8D1-B499-4451-A859-508A2F53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070-92E3-499F-9C02-0CD4CD2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6B3-F707-44FF-8D98-449E7313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F1E-A39E-4CC2-9587-A80E853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FC3-5783-4636-85BB-ECCBBDC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20F-E72C-4043-9BB0-2E9935B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E5284-3C9C-404C-95DE-46940D74A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