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ABA40C-A366-4F64-B149-26DAB58D09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52AA35-6A34-498A-9AEF-1336C1D765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321AD8-63FB-497F-AFC1-FCF4B4A282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735798-76FC-446C-B553-0A712298C7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ACCFE6-EB91-45A4-B99A-B638944AEE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90A832-801D-4E80-964B-8B5924EAB8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61E926-E480-47B3-974C-0B5F0D2405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F5BE6E-B7E7-4CC1-97A0-26A7633763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FB78A6-758C-4436-9F19-998D5E7692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8A50D9-6CC5-4FF2-BA6F-3009A27216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5DBF9F-5B73-4472-9931-442DCAF4E3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0B6EF5-14FE-4267-9C0A-C38E615845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C25E66-BF95-4597-AEFC-C3AF99CEB2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2E5AA3-76F1-4788-AC29-7B21A42226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BDCA98-DB2A-49F3-8DD6-207C8ED215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3B92F8-A3F8-4E3B-A813-F98A93CF6B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C2A374-E0A1-441F-9B33-1068167158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15AF05-0FAB-41D8-87A9-C1BC2E182F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6968D4-EB75-46D7-8376-3264637C4D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05916B-D8B7-4512-BD74-029F5B7579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194E1F-B19F-48F6-98DD-B2B2F5D677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CC01C1-AF46-437E-8358-CB740E49BB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068904-2884-43EB-830B-31A07B12C2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8F2F58-D4A9-4E06-9DCB-27327EF271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978BE-AB2F-42BE-889C-5513B0CBA92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481A0-D7AB-4C90-9BBF-331432BF4B9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AAD4E0C-8D8A-4A5B-BEF6-457A32B0739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9534F23-7623-4177-A23C-A05DE1BD6CB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59E654-0D86-4EFC-B34F-681DFB910D7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FF7F4B-221D-4FD1-AA62-203E0B14817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5652DB-AD16-4796-A2C4-031D2C64C4E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C34A1A-CA44-4921-9773-20383A316F2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7D5610-8A86-433F-A132-643134AB1E0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917E1C-052F-4F07-8DA1-3920E18FEEA8}"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E3DED4-A677-4FBC-BC91-311D2BAA62FC}"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241689-EA10-4095-88A5-5AA4A63939DE}"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8B108C-2028-4E7C-9161-3F644CA9F927}"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D247A7-8D09-4DD6-A807-DA8541C6ABC3}"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4855AC-CDAF-4D75-919B-604FEDEC8FD4}"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A1D263-0630-4C2F-A904-A01B75B9DD00}"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3DA8AE-EEA4-42BD-9BCA-DC78C248A2A4}"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AED35F-4933-4632-BE79-DF7C686B9062}"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E45173-3103-407C-A8B4-73520193EF7C}"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62AB73-A35F-40B5-8623-11520DF5B11C}"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89E204-4B73-4931-A0A4-974692D39FA1}"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837B54-4A9B-42AC-8357-2E77C7D43EA9}"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F8A7C2-6CE9-4084-8AD1-B15755CD6480}"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2AEA3F-FD02-4681-915C-5840F587DC29}"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CBEAD1-F00A-4323-AE98-0154A54A1727}"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92EA7E-3951-4D13-BB35-3371E4F167E8}"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4E7BAC-31A3-4DF1-9BDE-3B79DF95A930}"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DADE21-0590-4C65-90F9-F063B98AB959}"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781879-826E-4905-BD23-79EFC36A2B89}"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F2D6235-7F7A-43F8-92D6-CC0626017FD9}"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551314-DEC7-45A2-BB14-88515C97945D}"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2098FF-EE17-41B2-B537-000FBD45FFD9}"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C2A425-5A70-423F-A4E4-475DD7C75A4E}"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2AB01E-0C7B-4CC0-B8F8-68B14DEC8158}"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573CF5-75CB-4BF1-A911-702424CA84C9}"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984AEB-0B07-4D32-B9A9-C35B31A9AD19}"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01EF1B-F7A2-479B-9059-2C20E3F83493}"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665C54-2295-4D1C-801D-E2F756FA4214}"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F9C170-B02D-4D9D-9D4C-568056F905E1}"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0D4AD6-27CA-4E85-85A4-074B8049185E}"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BC880E-3D3B-4B63-B772-25A78CC4B5B4}"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2470B4-AFAB-44BC-9F4D-BA21D009ABF6}"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3BBF8E-0FBC-40FC-B9DC-E960ACDA23CA}"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480AF0-16C4-439C-9A99-F2B299ABDA33}"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82E617-9D35-465C-9413-A76AEC24E9FF}"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AAF533-7AF7-47BA-86B5-822317181511}"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8AE1E8-C131-4FCB-9259-F26375930702}"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A9FBCF-8B51-43B5-AB40-A4F0A1928B37}"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A13241-15AC-4795-A674-1567D6ED0C46}"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39100C-6701-4FCD-A313-DD38CDE2D6E1}"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B8CB8B5-E11E-42EA-8039-8BE8C7EE8CFF}"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F7B35D-AB5B-4F71-A51B-D3C22CBC6938}"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FC0E2B-9FD0-4E14-90AF-412507F1DBFF}"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428A8BD-8071-4273-8A12-0C6C33DBDC42}"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BED0C6-2B14-4FA9-87AA-5AACE5724E7D}"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8E9FB7-0516-4BA1-9ED3-A8EDADFE5F02}"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8E2478-B9F6-4EBD-A4EC-A7CC929AAECC}"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A3CBD1-A484-4F0C-A43B-FCB1CCD83E17}"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646C31-326F-4B6E-83D7-7697FB0115ED}"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DC0CF8-C8FA-4DD0-A5D3-FC4D4679DAA4}"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BA7D73-1960-4F61-BBBA-96467A79F0DE}"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6AC5796-86D6-4820-9C03-D3CCC09A1C2D}"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27BD41-F974-42E5-872E-FBD51776463A}"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A2BCC6-0F9A-4F5B-B4AA-F5D4093BBEA7}"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A913C5-7736-4EF2-8B8D-F5CB861B7D32}"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695EF4-C798-4ABD-8EA6-DD3368E4B2A1}"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AE68DC-B678-4C5B-B4AF-6535395707E5}"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688D4DB-7957-474B-85A3-F04D323F7165}"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3F9395-CFF0-4AE3-BA16-4B2064B48D7A}"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265908-11C7-41DA-85A9-521478B2C9A8}"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5A0F25-B269-4400-BA26-84F9130CD422}"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39231F-C6EF-487F-A202-64E583669E42}"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043741A-98BD-4171-9ECD-E36186C0E979}"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EBA680-CCD7-447A-B3F4-FC3438740DB6}"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423B3C-9F0A-449D-A2EC-8A0106F9D546}"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202756-9D4A-4E78-9CA9-BC43F086D2BF}"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FD66BE-CB67-404D-9EF1-D70EE41B6D00}"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ABA65C-5419-46DA-B193-9332865601CC}"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B2F2FB-5FB1-49A1-98DA-A070660A8502}"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A98BF55-EFA8-4722-8990-127E1BB0F4DF}"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28752B-A209-499B-9878-F6C6B5596EC5}"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64EAF8-672A-41F3-9CF7-34FD9D4CD79D}"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F2FD78-0D3E-4FA0-9994-AE95382AE846}"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BB062C8-556E-437A-9F94-BE5D6C1ABD68}"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BDD4BB-238C-483B-AC93-01AF99054DB8}"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F5E4A8D-D851-4744-9993-743BEEAB859D}"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9E9689-7D09-44DF-A27A-C45D0C9AEBC5}"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B8DCA6-1FAB-440E-9B21-8FF79E414C12}"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24B66B-AE5B-479A-BEFD-9DA18249D9F8}"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E470A4-3B8C-4FC0-8669-EDBCBFD42CC6}"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6E28CD-6521-4109-83AC-EF4B6700841A}"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960F84-617B-467F-B11C-3E7213C848CF}"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68866F-9272-452D-AEB3-D298D3A60E44}"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DBC154-1AD9-40E6-A25F-11DC67B9A636}"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670525-21D0-47AB-87E0-C74D05FBD0D4}"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B23EE7-2DD2-4D65-847C-0ED4AFC58B5E}"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D04DC4-5AE2-4F24-9A54-240F19B18501}"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1A54CE-8BC1-4308-8BFB-D8BA15F8F507}"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4A2582-B4C4-477F-A67C-A6F19319DB2B}"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9647AE-5521-4B7B-AC5F-7E57B923DDAA}"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37181A-CB0B-45DD-8E36-436E0CD88F61}"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E82668E-96C2-4C73-8DA6-5FF7D041215F}"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1DD7E3-F7E3-4A1D-B881-249B25C025FD}"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D69965-7F72-42D2-BE9E-1AC952164A8F}"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C2AA4D-D7F7-42E4-80D5-AA652D065895}"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BAEA1A-98E0-4615-B8C9-9A687FA01749}"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2E863F-CEC4-43DC-8508-FBB9CA19C8B3}"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78BB2F-E649-46D6-92FA-9D37CC93D0AC}"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F9ABA3-2926-466F-8542-50DEAD0818D0}"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024277-C908-46A5-A268-3D5E2E6E67FF}"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0E94B3-9451-4C56-8128-BF92E156BEB6}"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CC01DB-DE53-4188-8F65-ADD686C43119}"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4D28AF-DC40-4415-AB79-0F43A8D7A780}"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560C6B-2818-4589-9AA1-DAFB6FF2819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F29D33-56C4-43BC-8A9E-C406EC31C8BA}"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CD3B57-D3D3-4CAD-8950-923EC5DD4E56}"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E6295B-0888-4D43-B038-E971EA7354A1}"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58DEF6-DCB9-40E9-BDA3-40B20CA2397F}"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DF2736-B3B1-42F0-BD1E-F83384182ACD}"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27AD69-408D-49C6-8BD1-A2C38CCDB94E}"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B375DA-989F-47EB-AD6D-9A182DF4B1A3}"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CAA633-A6AE-4419-8C1A-B9CD560A2DE9}"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DAB6E2-CF41-4CD0-BC84-E9484117E0A0}"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B26AEF-748C-464E-AF20-B65E329E6687}"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B6CEFE-6F90-4ACB-9452-3F9F315E24EB}"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1A7488-2098-4FD1-B923-EC7B38D37288}"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DD8C8A-E66F-44A5-9531-B43BE7CA0B70}"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CC939D-900C-46B1-81BE-5E871BB6B724}"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DF391F-FE91-4304-A579-D5B6C9350D63}"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EC59933-E0C7-4D88-91D9-F5F8CFA33F46}"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33CC1A-661A-4F60-82AA-8CD26C0EBC7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6726D1-24AC-4348-B97E-CC5441016D1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D466F5-F682-4A8A-8C10-1D9600FF354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3F908C-5EC5-45C1-A772-3E5B9770023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E48957-D6F4-4AB4-9307-B7490E6A756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DB7083-B40C-4973-9F10-6FB82EF7930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144D388-2449-471D-8B75-5DD4D11CC53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0B3743-5EF5-4F3B-9FD9-DCA6778988C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8B556C-5D10-4B68-B8D6-6E231937D27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255040-2A58-488B-93DB-45848089EF4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41F922-1CB4-4D22-8DA8-6C80DD4C501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2EE0AD-553B-45BA-A3F4-F9D4A3744EF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B962A7-D23D-47B7-AA70-CED8730F19F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09164B-00A0-475D-9C65-8C8A81207E6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A46D19-DB17-4F36-B46F-64C87633F65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01EB20-E13A-48DB-B467-D84B9449B8B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779CF6-CD9C-446C-93CA-4C64E68098E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27637C-D73A-4D35-9172-8847F8AEFD3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64734D-36DA-4BA9-8EA0-1ABD4F61835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40200F-7E5D-486A-8E97-37C3DDD7B91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F14E6E-2C25-4074-BA93-84F4AE482FE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CA7BE7-B53C-4A22-AFEE-2884E9EB643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63DD44-F711-40C9-A254-26F79DC7810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0717B0-8A80-437B-8951-28D3DE5D443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742338-4666-44F8-A9AA-43501333C3A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0BA761-AD31-46EA-8E30-88DA6584F72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A65FC6-4012-4B51-A774-27730FB9077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554C23-67F7-4442-9F64-D3C5A607CC4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7BAA67-8232-4A1D-AE85-36C345E9A41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D6060E-3C67-4674-A706-A8623B944EF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2E82F5-3ADC-4C33-91ED-313C2F8E58F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F5298F-9969-4A70-BBE6-8A52BD8E479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687E53-8F49-4A63-AB24-78068589224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7BE3A3-2F73-4368-9A97-1817D8C3BD5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4BCD5C-E018-49D7-BC81-0719F962313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F1CA08-8B12-4517-AD25-65BEF3E5EFF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399085-C556-4C7E-B02F-A63BC3C070C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5296CA-F345-49A9-B220-646EC7E3117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DE0D46-E3D8-467D-A0E7-33D5B700177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5318AE-25F1-453D-9A7F-C91BFF7A55D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6D15C3-C078-4250-A896-846F9E0B214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5A7BBC-D080-4F0A-9AB1-446D08A4787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108666-8679-4B17-BB81-44CF39044C1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A5B9A8-715B-44FD-8F3B-EE40A6E52FD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A306C8-5DD9-44D4-859D-25C6C42DECA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C233C7-AB84-4FAC-839F-D803FE4117E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DB2940-184A-4715-A9CD-B2086DE21DD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88BE269-0D3B-420E-93F9-75A16C84C91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92CAE8-B2B1-4362-9D73-91BDAD38B19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9C9D9E-2E6F-4D1A-AC10-974933FC08C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86A054-E056-4AA9-A69D-F86F4FD0E88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19984B-A70A-4D89-988F-291A6621E5E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A9789A-7BBD-40B7-9485-CB6B907A3A5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5E8CB5-D928-4559-84CA-09584A65DB8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F58FE7-2F5B-4BC5-983F-46EC2077208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B22EB4-B220-4844-AC31-3E3CA6017BA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A2CD39D-95E8-4AB4-A2DE-ACBA4D25673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C0B940-DFE3-4A2C-91C1-90A38C09B19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D2BB6D-578B-4701-90B5-DFD86876001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223BE4-B1F2-42B0-92AC-06BA6D1FB1E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54144E-BD3A-4827-B9D4-FBB218F292E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B5DF41-ADBE-46CB-9DA4-9B3BF150B43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2E9AE8-3B73-4543-96AF-DA4F7EECAA9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B53967-3E8D-4314-A02D-726F8C7E3BC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DBC993-A957-4018-A42A-B6BA8DA2EEB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AB87D8-F0B8-4034-80B9-8A3A74C63B7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239620-FFDA-4A9D-A493-77809E87CF8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5EB9F7-2B14-42F7-ABFB-F2C65297DC3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BD0735-F23E-47D0-9104-F9AF387D54B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3C614D-E583-4FC5-9E47-20FD666FC99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A2FD2E-D4AF-4193-9E00-42FEE1803DD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72E4A42-2C15-4113-A163-01AFB91EAE1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AA4453-F8BB-4B55-B4D0-F15815660C2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D6BE27-1660-44E9-9938-D1D20268510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7325A7-D3E9-4204-B7D2-6E49B7615A8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C64086-6980-459D-A3F0-4118A4EB5A9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5C527B-09C9-4F03-9950-84EDC94CC7D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FA2C22-9A54-414D-9B86-2C907C1C785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E415A7-C44C-47BF-9478-84E6195C3A0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205EB9-BCED-4B2A-8099-EE2C48906D6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C862A3-763E-43D3-B575-B4DA0E56551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3B2E61-9F1B-403C-97D0-C4DF67CF8E9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19447C-9ACE-4C39-B22A-23B8C5833B3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A8DB5D-5CFD-4E2C-94BA-E07D9BF363A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FFE90C-AB34-4179-BE11-7B5B9366F1D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