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4C782F-83BE-4493-895A-01521D119A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A5E0EB-BF5A-4AA6-82BA-CE0BC5B712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ACF62F-1F29-4FF4-A31D-AC3A79A0AC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2DCA72-20E1-45AE-A52D-F674516E84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AF209FB-B62A-42D7-9626-A4223EC6FF9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971629-3B39-4E0C-B2DF-072FF3D116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C1B7BD-E64A-49AF-9CAF-510BD272C7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F00ADC-98C0-4607-A913-6FA627E01B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DEE209-3395-493D-8339-12DC192B3D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CED768-F9FA-4EDF-9A9C-68FF1F50DA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EC50AB-5CFB-4B69-9468-ABFFB936BF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A648C3-42A1-47B4-AE75-275A278804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A07AEA-A17E-4A0E-8EBE-EB9568BEB5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87BADB-53C1-436A-93A3-CAE380F452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BA0387-DEB0-417E-B9AC-9A4091513B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34D032C-D3F9-42E5-9F5A-081ED61DB02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E2D2DAB-68CA-4BB9-A512-F21A7CBCA4E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7D113A-D2E5-4B40-8C80-5CF25B5DD2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424508-8163-4389-A4FD-77DB158228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C8CEBA-8159-497C-A49F-35ECF18263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5A931A-544E-4E06-B9F2-A770B9C71B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73ED72-8EE0-4335-AFE8-6846997118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C189FF-86DF-47BB-8813-4FCFBF1448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B070EB-9437-4CBB-8299-902F64A99E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E27C48-FD4D-46B2-8A77-58542EE0D6A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530EF1-A750-4991-BD65-5A99C8E00DD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9477817-3A7B-4743-B3D3-EADC7C2566F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4F2176D-0C44-40EF-973D-1C04B7B76D4E}"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F3D729-C767-4EB1-862D-11EB9D5C484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6FCEFD-434F-4610-8CEC-66FA4DC6436C}"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8586D2-E978-48E3-AD5D-8CFAA66F918F}"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CBBCE0-97BE-4BD1-95A0-DA5488320A73}"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5D1F29-770D-43A8-923E-C53F9493751B}"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90DAC1-1606-4D34-B862-75E980B74510}"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0F1436-0FD7-429D-82C8-CEB4405589FE}"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69C9E2-07CE-4DAB-BC55-A1587F4100FB}"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1CA6D0-F4F2-4965-B800-FB7F645BC8F1}"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3CB7E1-1A68-4E7A-A774-2ED4E09ED72E}"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8DDFAA-FF4B-4209-9401-F6C603ECA42A}"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CC3299-B864-46FC-9ACF-D70C5AD86B1C}"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7C6A94-DB52-4686-A449-7D073445C906}"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D6D4AB-5E47-416C-8107-43793913F2C7}"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EE44CE-6AE9-4133-982B-377EA252BF08}"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EBC70F-77FA-45B3-A418-4A179DC2D36E}"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6CD19C-9564-418B-8B15-B33A30C1A59C}"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958F90-4B9F-4461-B9FA-2C28C6F9345C}"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D6EB26-9C33-487E-84D3-DD1E06C01D73}"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3393EA-F6A5-4180-ADB8-73B2ACD6E523}"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E77BB9-CABD-4C91-9A02-CDD04CB5E153}"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B69B21-7900-4264-B814-9E6401F99402}"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9D34F6-7BEC-4C2E-BFDA-9F65B9CCCC63}"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54F7F0-8DDA-41DC-A2CF-E2C00B66534B}"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69A7F1-6988-49B7-A579-52455A84DA15}"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02D2AC9-09B3-4FAB-8425-EDCF97969718}"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8053ED-DF82-4882-A82D-05F4BCA3CBC6}"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9A0620-D3A9-4D83-8D26-CB43F8AC6DA5}"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12459A-609E-4FDC-9E4C-B816EC48FBFC}"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AC4A78-C3E4-4842-9B23-F94D55AC83CB}"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4454A1-A0B1-4D50-868E-3A14B09F0E06}"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2F381C-F7EE-4C58-9B4F-7BB748A19866}"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A43BFB-BEBA-4693-A7AF-A1DBD74AB2D9}"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8AAB5A-EEBD-4D58-80E4-790ABA7C6685}"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8E3909-D678-46F3-8C19-92B697454804}"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516330-A029-4627-B2C2-E6FAD463D207}"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E4A4C4-AABF-44FF-9136-A3A6468A0199}"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71E9C0-343F-46D2-B7FB-565904F1853B}"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0CC5A0-9E4C-45C4-8CBE-60296707FB19}"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BEDE15-E170-456D-88AD-AC32C4134BEC}"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5BC8EC-FCD0-4EB2-9F0F-423EF87F522A}"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A58A5C-9529-4B08-B9FC-9EDBA52BA22E}"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554A10-341F-4C11-BC05-6CA8AC3BC54A}"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9686D4-5C6D-47BC-A52A-E3CFE5C9189A}"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B959F4-DF3E-405F-AF79-666CB8395BF7}"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42FC0F-BCC1-49E0-B53D-622B80E89AC5}"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63AE9F1-1BC4-4B6D-A780-52BB7A3DDAB5}"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88523E-9A98-4FB9-9726-D0F3415A7B5D}"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4622F8-B773-4934-97A4-08EAB8AE5065}"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4FF5C8E-2FBA-47EC-BFA7-B2B43940986C}"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54341B-CC5B-42F1-8A58-714698A19218}"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3A3D20-D1B4-47DB-9871-2B9952FB56FA}"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BF45D9-C21F-4EA3-89B1-4855682009E2}"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33F398-1A8D-47D6-A1D3-51D1ADD1BDF2}"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3FBB06-C440-4996-9E8B-862C97A0E97B}"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D09738-D06E-4410-A43E-F682FA16477B}"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076830-8068-47BE-A9E2-5BEB8C53DF72}"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F6BD85F-14C8-4981-BFF8-4B408BE23604}"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C1241C-B1C3-4EFA-95E4-F1FCCA864B26}"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446C77-C79C-4D06-B424-911BDDE4B137}"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DD948B-2491-4269-B493-239D53AD32B5}"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F9BC91-893C-4ABF-BADD-8C7AD1CAA86A}"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996BC1-5BD8-444F-BBF9-D7DE23CFE40C}"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3A62B2C-C7F3-4F27-AF07-BBF6FE9ED05D}"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29D539-F77E-4105-BA5B-EB4B97FFF61F}"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E3CC99-1A40-4E0A-A8CE-F1A2B4AF11AB}"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753171-5A74-4EB3-8BE6-78200F5EFD9F}"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5ABABA-FE79-4864-9AEE-2A5CD95EBCF4}"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335FDFD-300F-4257-940E-7047D34FAEC2}"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CBFB94-DEE5-4F2B-AB9B-F2578911C79C}"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BDAE0E-0889-4462-A209-30B06675E628}"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8484AF-AF22-4C5F-BB93-45B85C361272}"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97A393-6B22-4F55-8F4D-1C383668DCB5}"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06F908-483C-4F5C-8F6A-34D9386F0988}"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BDCA85-93E8-4D3C-B3A4-E77483F76158}"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A51AE55-4C91-488D-82A9-FCA5D9EFF732}"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6BD8B4-D6B0-472B-BF2A-714562E58FAC}"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C02C83-610D-4DBB-A3F6-47786E080DDF}"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43A28F-A497-48C2-872A-BA7A4D64A0A7}"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524A530-1AD0-4C2B-BFC1-49B9FA5179AE}"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3FFE4A-1439-4848-B211-DBDBC34DE15D}"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083AB27-EAD5-4ADE-BDE4-A5B15E5C1E42}"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D8AD32-2FD6-433C-8905-115DE5A996CD}"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8E09DA-B75B-4070-A87F-D6AF246A1B06}"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D2F615-57BD-4F2E-8D0F-6F786ADA8E31}"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AC99B1-BADE-4C2E-8B66-21BFC8D83B77}"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EED30E-F36A-4509-981C-70948634A89A}"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C89738-EDF7-4C75-A517-31234CF59254}"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4214D7-EB3A-434D-A366-26FC58AB9167}"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0142A1-70EF-4A26-855E-405AC5CC49FB}"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154B5D-ABBE-4CDE-889E-ABC833CD4755}"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368BA5-741F-4BFF-9055-1707B300141A}"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42C21B-D8FC-4EF2-9287-F0D62A44FA6C}"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98ACE4-09F6-4B52-ACB3-C63218996CDA}"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089AEF-113D-4B6E-A618-A7D4107316A8}"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926C7B-F57E-42F3-8360-D81C8DAEF554}"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0717CA-85B0-4185-A7F3-6646BFCF976B}"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024CE84-3494-4030-BD59-4091C3AED4A3}"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7BE2C3-2362-4A81-AC6F-8A04E6853F0F}"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06E796-BEEA-45D6-ACBC-44864CE543EA}"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6FC2D1-D569-4B06-8DF7-7DA919868E4D}"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C0E48D-2F03-41F5-82D3-7FAA29148B80}"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34A26E-A224-4900-89E8-26E791D5CF8C}"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C1C8F0-05D6-4124-86AE-F35F37911439}"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ACDD6D-DCC1-4942-ABA2-605790C97481}"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BFBF27-6ED3-4B6F-AA14-26D8ED79A26E}"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D88B68-A94D-4821-B13B-DF7C84BF903A}"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F7B091-67F2-438A-BCD4-1A7169AE623B}"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D8E97C-6FC6-4BC8-B712-93A22FA04EE0}"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935077-8D23-4831-B2AC-D0C52CD397B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57FA80-9416-469A-A25F-23DB8B077909}"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DF087A-1FE2-4F14-9A8D-548C7F590472}"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2BF853-CCF2-4734-B1D6-6C13B591C970}"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392DCC-C55E-4F94-8E10-31AA7EA8DFF2}"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E48888-24D9-4911-A55E-02BF1A82D295}"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083422-71DA-4921-9D4A-3BDBDB6A313B}"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5DDBE6-2D87-4A69-A632-6F04A6D2F00B}"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DBFEE9-9037-418E-85C2-C6663B6F8689}"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71E09B-2BF2-4BD7-AACA-CF262B71D861}"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BF5B01-34A3-45D2-924D-89AF9AEA4CD4}"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E477DC-D81D-4954-9120-EA36FC2BD167}"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EBA1A7-5FEB-4F69-95A3-A1077F67CC43}"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18F6C8-94B5-456C-A06A-B76255EE2F89}"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61C5DA-1DA7-4AF1-A2A6-3C36FAC1A637}"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24C27E-C5AF-4515-9DC1-394469B1C867}"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B983B7B-A506-48D0-9D3D-3D956BDF9704}"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5A0EE5-014E-499F-94E7-F0EB6CD1A7E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6500AA-7E9B-4F73-AE54-005D457E55D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0D8406-3AEC-44B2-8B3A-12800A0A92D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1B4827-6CA0-4D10-BEEC-A16D4AA562B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F3D12B-5F1D-43C7-9079-B48A5DAF235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0629D8-B317-4A90-90E9-9044F8CD36A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8982394-EC06-43A2-94E3-0B6F410F75B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5F047C-8CBA-4AAC-9EDB-42A65D62222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70D365-07F5-44F4-AAA5-623ABDCE1DF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9A9AF2-F03B-43BD-9D2F-228E0D69CA5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E0C133-FC50-42B9-960D-C6418B943ED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3C4E7D-9392-40FE-8F8F-B3C8611AD16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B5D6BA-AA90-4C7C-B6ED-B792E46811F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53754D-3A75-4542-9A67-C1236ED81F5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2254E6-2DDC-4B3A-ACDC-C0945AB3B34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475CE5-3B4F-4232-8914-9D9A4B50468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E7208C-414E-415C-A31D-62629C043AE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0E9D29-B8B7-402D-BE72-7340DD49B11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0BC585-65A4-4FDD-A346-E654804F6A5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E5C3EC-7E8A-4E59-B891-C287ACE2CB1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046EB1-BBA8-477A-A21E-F5FFB615E6D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C99DDB-BDA6-4210-9C0A-C5580A1953E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57B24C-BAE2-446D-AB8D-D12299BA48E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3B10E2-658A-4323-AB38-E00E939EFB3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E3C2F9-BF42-4E9C-9736-6749C710DDE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C37A3D-DFE5-4466-94F1-4854B3FA8AD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55A183-4521-4E6A-8366-05864503147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FF22FB-9754-4D60-9747-2A80EFDF349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AB250F-2778-4185-9732-462BDFF2CBE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9307E7-92D4-4090-8A10-1D32097A8CC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B7C1E0-3979-431D-B99E-159B448F1CB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17A417-D3D0-46E3-AEEF-64E51C2C303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E25AEE-7D8C-4548-8C3B-2337B586C18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6816C0-924F-4BE5-A478-4CBFAA986CA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B7E716-EECE-4D93-8B59-2D64EA02997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C57302-5FA8-4DF4-8658-44E8E0B3774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4B8F3A-EFA1-49A7-97E5-77897DF1C93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36D14C-36A6-4E93-88F1-034CF4CEFF8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ADD86E-6C80-4BCB-AE95-16D2CCDF736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A0C06D-7AD8-4777-B9FD-7BD3102FCAD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8086AA-7DB2-45CF-A8D9-1784C48AF2B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ED8E85-02E5-4F68-AF7F-E956175E5538}"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DE452D-FC74-4076-81D6-5E9AFDA6B41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00893C-9196-49A7-9D3A-64D47D043EA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7DBC7C-864E-43C3-B559-655F9ECEC892}"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4BB9D9-DE5E-44B4-887D-BA6798EB0CB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C34B0A-9E90-4246-994B-954553549E3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60C9639-000B-4383-AC11-1376AE5A21B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60F977-E4B2-4C4A-AB07-144F9BEBC7F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C6966B-8CD2-4940-9E6E-45C836F184F3}"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FB85BE-8053-4DCC-A2AD-5DDD2426536E}"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079344-8512-47EA-97D2-262128D35D8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6C6980-2D81-43F7-B9AA-719982C6E93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FF7C0D-D2FB-4DEF-868B-03D111CD0E96}"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0D2DC2-C53B-4A49-83D7-925086DF072F}"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FB5E37-0A68-49D7-A5BE-00F10F36BF3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5A1EE79-FD02-402B-B6C1-CD81CE91F23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41F86F-C67B-41AB-8462-72D9A789A9D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0A866B-69EE-465F-BF19-E4071A26C92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138357-8E71-4B9D-BCC1-38A5B3AEFA07}"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8FE5F7-EFD5-4E09-AFD5-52D21AEE0A8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537D20-1FDF-4AB1-94AF-4EE1340E00B9}"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E27F60-3E0D-402C-98E8-51185F0EA99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6D5330-1B56-4CF8-9A8D-C973B130238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8A4042-35AD-4EAB-A9DD-6FC04517FC4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0CCCD1-D5DB-4966-9341-CA95FE3E680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03E452-D9D2-4423-BE20-23388ABBC847}"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9AF0EF-EFCA-4FA4-978B-DD601992E278}"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6E1787-36FE-47E9-B7A5-2FA2E1E6DCE3}"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8A5502-F345-4FBB-8CDC-F2D3D7B12636}"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8F505F-899E-4B86-B755-297C32993C7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82D35D8-C88D-4CD1-965E-8FF45F5317E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10E3D5-14E3-4C06-84FC-E4724AC966BD}"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4264BC-C9F3-4A5F-AE7D-302E6E0CBDD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780328-50CF-45DB-8A84-6A0028D1EF64}"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D40D40-B950-48B4-B9EA-83BF285F1A83}"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005A28-C8E5-405E-8803-90BE8BB2E0AB}"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B7F4DC-E20B-44F5-B8F6-63B7AA10B2ED}"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D9B4AC-B75F-4DF5-B4F8-F6452A12A0F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3E3082-7497-4B9B-8812-A6D456DDA5C0}"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388D6D-B43E-41B7-971D-8EC457332DDF}"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F388AB-E45B-4CC8-828D-A4B1CE919994}"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21E98B-257C-4CA0-8735-269C995051E0}"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ED49BF-1613-4C23-8EF5-A4A6FAD1D805}"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5229BC-B724-4879-A5B6-1877B4BD1693}"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