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311C-0024-431F-95FA-0240871D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9044-C584-41C5-A437-6397CBC4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6E80-8A25-464F-8F5D-525F2FE9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44CA-2387-4005-A189-A19E36E9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E202-6112-4C40-8FCB-77506E39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A978-8D8A-4B3C-9727-2778A45C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76DC-69B3-4092-84A2-EFB80995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590D-341F-4341-9A55-CDD5DF64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6008-5DDB-4702-ACD3-78D54ED0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4882-D3E1-408F-9CB1-881056DC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D7EF-8F2E-41C0-9E8F-DCE939C6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332D-767A-4C89-9B2B-BB175BC6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9BCF-4B0C-4223-98C9-9A28946D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A3D0-19F7-489B-8D4B-83462A63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5DD6-1C16-4212-89E8-4E3488AA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67C8-87E2-47C8-B24B-3712E099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9D09-8728-4074-A971-678683FFC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BAC6B-1BCE-46DA-87E5-6917A118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371D8-5E03-4A50-85B2-B1CCE0FD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8162F-BEF2-47AB-A653-83A128E4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6C4E9-DF38-436A-9E24-57828D25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F0F5E-C69F-405C-9E88-E28BD3AC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5F7C-FCCE-4B49-9364-3F6774AF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6A808-0885-4012-B9CB-4C9877C5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820CF-4D5D-462B-9118-2D9EB7F2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64224-8F17-4BC2-9921-9DB28E77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1E10E-7EDE-42B7-86F6-8116CF12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8DEA2-1981-44F3-81B0-0E1497F3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88ADE-1667-463C-9BEE-2E1309F0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F25BE-A28A-43A9-96DA-586970B6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054A-D357-4C87-B6EF-FB168438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7B9B-BE06-4F09-8DB9-4B9AE876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39A1-B243-466C-A923-101DD65A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4308-240B-4B13-827D-0F381E26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EE3C-269E-4F97-B1C8-9B7645CA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36DD-8A3A-40B2-A8C6-63563480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EF32-7463-4673-BD30-95C6F4496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DF41-ED8B-43BE-8942-033E45534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1DE3-7913-426F-A587-22846C748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4:13:26Z</dcterms:created>
  <dc:creator>Gary Blue</dc:creator>
  <dc:description/>
  <dc:language>en-US</dc:language>
  <cp:lastModifiedBy>Gary Blue</cp:lastModifiedBy>
  <dcterms:modified xsi:type="dcterms:W3CDTF">2005-11-04T04:15:14Z</dcterms:modified>
  <cp:revision>1</cp:revision>
  <dc:subject/>
  <dc:title>Slide 1</dc:title>
</cp:coreProperties>
</file>