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C8865-34ED-47F3-99E7-D6B27B8433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50920" y="684360"/>
            <a:ext cx="4557600" cy="3417840"/>
          </a:xfrm>
          <a:prstGeom prst="rect">
            <a:avLst/>
          </a:prstGeom>
          <a:ln w="0">
            <a:noFill/>
          </a:ln>
        </p:spPr>
      </p:sp>
      <p:sp>
        <p:nvSpPr>
          <p:cNvPr id="16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revisit the server-agent architecture of the JBoss Network Enterprise Manager, explaining some of the capabilities and features of this design. We will also introduce the Plugin Development Kit or PDK that allows for the extension of this architecture to support new service monitoring, including third-party products and custom development. At the end of this presentation you will broadly see the structure of a running JBN EM Agent and will be able to plan and start development of your own plug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Documentation.htm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84360"/>
            <a:ext cx="4557600" cy="3417840"/>
          </a:xfrm>
          <a:prstGeom prst="rect">
            <a:avLst/>
          </a:prstGeom>
          <a:ln w="0">
            <a:noFill/>
          </a:ln>
        </p:spPr>
      </p:sp>
      <p:sp>
        <p:nvSpPr>
          <p:cNvPr id="17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see an example metrics set definition that will be included into the echo-service definition. All resources must include a metric named Availability for the purposes of detecting a services state. It should return 1 if the service is functioning and zero if it is failing. The MeasurmentPlugin impelementation’s “getValue” method will be called with a Metric object representing this information. The plugin should then return a MetricMeasurment object representing the resul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50920" y="684360"/>
            <a:ext cx="4557600" cy="3417840"/>
          </a:xfrm>
          <a:prstGeom prst="rect">
            <a:avLst/>
          </a:prstGeom>
          <a:ln w="0">
            <a:noFill/>
          </a:ln>
        </p:spPr>
      </p:sp>
      <p:sp>
        <p:nvSpPr>
          <p:cNvPr id="18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implementation of measurement plugin takes the metric object, reading the JMX url information from its configuration and using it to create a JMX connection to the monitored server. It then uses the JMX api to retrieve the current value of the attribute represented by the metric, return that value as a new MetricValue to the agent, which will then forward the value back to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Server and Agent handle all the details of managing when metrics should be scheduled for collection as well as the spooling and transfer of that data back to the server and finally the historical storage and presentation to the user of that data.</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50920" y="684360"/>
            <a:ext cx="4557600" cy="3417840"/>
          </a:xfrm>
          <a:prstGeom prst="rect">
            <a:avLst/>
          </a:prstGeom>
          <a:ln w="0">
            <a:noFill/>
          </a:ln>
        </p:spPr>
      </p:sp>
      <p:sp>
        <p:nvSpPr>
          <p:cNvPr id="18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creen shows an example of the metrics default management screen. For each resource a plugin defines, there will be an associated metrics default page allowing configuration of standard collection intervals. Once again, these intervals can be overridden for any individual resource. Graph visualization and historical tracking happen automatically for plugin defined metrics. Baselines are automatically calculated for all defined metrics and the alerts system can utilize any defined metric as a trigger, providing great features through the development of new plugi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84360"/>
            <a:ext cx="4557600" cy="3417840"/>
          </a:xfrm>
          <a:prstGeom prst="rect">
            <a:avLst/>
          </a:prstGeom>
          <a:ln w="0">
            <a:noFill/>
          </a:ln>
        </p:spPr>
      </p:sp>
      <p:sp>
        <p:nvSpPr>
          <p:cNvPr id="18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can also define control plugin implementations and actions for a resource, providing a mechansim for control operations on a managed resource. These control actions are automatically displayed in the JBN EM Server and can be used as response actions on alerts. They are historically tracked and can scheduled for future and repeated op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finition of the action is simply the a name that will be passed to the plugin implementation along with the resource information for execution.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50920" y="684360"/>
            <a:ext cx="4557600" cy="3417840"/>
          </a:xfrm>
          <a:prstGeom prst="rect">
            <a:avLst/>
          </a:prstGeom>
          <a:ln w="0">
            <a:noFill/>
          </a:ln>
        </p:spPr>
      </p:sp>
      <p:sp>
        <p:nvSpPr>
          <p:cNvPr id="18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ample control plugin implementation shows the plugin handling an action by name, retrieving configuration data for the resource being operated on and then executing the control operation via a utility to invoke JMX commands.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0920" y="684360"/>
            <a:ext cx="4557600" cy="3417840"/>
          </a:xfrm>
          <a:prstGeom prst="rect">
            <a:avLst/>
          </a:prstGeom>
          <a:ln w="0">
            <a:noFill/>
          </a:ln>
        </p:spPr>
      </p:sp>
      <p:sp>
        <p:nvSpPr>
          <p:cNvPr id="18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oinventory plugin type can search for servers and services in ways appropriate to the server being managed. A web server for example may be found by accessing a particular URL on port 80. A database may be detected by attempting a JDBC connection on its standard port. These facilities provide simple means to add inventory to the JBN EM Server without needing to manually configure web or JDBC URLS. Autoinventory plugins may also detect running processes via the SIGAR libraries, collecting live information such as the classpath used to execute a Java process. Windows registry searching is also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Agent automatically run autodiscovery on startup and then once a day thereafter to search for new services. This process can also be manually invoked from the associated platform page or a manual filesystem search can be performed to find the files typically associated with a known type of managed servic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84360"/>
            <a:ext cx="4557600" cy="3417840"/>
          </a:xfrm>
          <a:prstGeom prst="rect">
            <a:avLst/>
          </a:prstGeom>
          <a:ln w="0">
            <a:noFill/>
          </a:ln>
        </p:spPr>
      </p:sp>
      <p:sp>
        <p:nvSpPr>
          <p:cNvPr id="19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covered: (See abov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52360" y="684360"/>
            <a:ext cx="4557960" cy="3417840"/>
          </a:xfrm>
          <a:prstGeom prst="rect">
            <a:avLst/>
          </a:prstGeom>
          <a:ln w="0">
            <a:noFill/>
          </a:ln>
        </p:spPr>
      </p:sp>
      <p:sp>
        <p:nvSpPr>
          <p:cNvPr id="19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the use of JBN EM with plugins,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please see our other online presentations on the JBoss Network Enterprise Manager. The URL will be provided upon reques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ee in today’s agenda, we will start with the Agent architecture, discussing how it communicates with the server, and finally moving on to how it utilizes plugins for accessing various servers and service information. The Plugin Development Kit will then be discussed, including how to customize included plugins and build your own to support custom services or enhanced monitoring and control featur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0920" y="684360"/>
            <a:ext cx="455760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JBN EM architecture utilizes a central server, known as the JBN EM Server, for centralized control and management of your enterprise. An agent is then installed onto each system to be monitored. A single agent can manage all the applications and the operating system of a single server machine and acts as a relay to the master JBN EM Server. The agent manages the execution of a set of plugins that connect applications, reading metrics information and executing control operations as instructed by the JBN EM Server.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0920" y="684360"/>
            <a:ext cx="4557600" cy="3417840"/>
          </a:xfrm>
          <a:prstGeom prst="rect">
            <a:avLst/>
          </a:prstGeom>
          <a:ln w="0">
            <a:noFill/>
          </a:ln>
        </p:spPr>
      </p:sp>
      <p:sp>
        <p:nvSpPr>
          <p:cNvPr id="16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acts on behalf of the server, responding to requests for information and passing them off to the appropriate plugin for execution. It manages the auto-inventory scan allowing plugins to search the local platform for services they can manage and providing that information back to the server fo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manages the schedule of metrics recordings, again asking the plugin to collect a specific metric and then gathering and storing them locally, to be streamed back to the server on a regular basis. The agent temporarily stores this information locally and can spool the information should the server be unavailable or unreach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loaded by and run within the environment created by the Agen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50920" y="684360"/>
            <a:ext cx="4557600" cy="3417840"/>
          </a:xfrm>
          <a:prstGeom prst="rect">
            <a:avLst/>
          </a:prstGeom>
          <a:ln w="0">
            <a:noFill/>
          </a:ln>
        </p:spPr>
      </p:sp>
      <p:sp>
        <p:nvSpPr>
          <p:cNvPr id="16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agram provides an overview of the communications between the server and the agent. Once again, there are two streams of communications directly between the servers and the agents. One sending commands from the server to the agent and a second streaming metrics and availability information back to the server. Each plugin instance may handle multiple servers applications, but each plugin handles only one type of primary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 running within a server are handled by that server’s plugins. For example, hibernate MBeans are accessed by the JBoss plugin when running inside of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50920" y="684360"/>
            <a:ext cx="4557600" cy="3417840"/>
          </a:xfrm>
          <a:prstGeom prst="rect">
            <a:avLst/>
          </a:prstGeom>
          <a:ln w="0">
            <a:noFill/>
          </a:ln>
        </p:spPr>
      </p:sp>
      <p:sp>
        <p:nvSpPr>
          <p:cNvPr id="17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self contained jar or xml files that are deployed to both server and agents. Plugins include metadata describing the hierarchy of inventoried platforms, servers and services and reference the class implementations of one of the four plugin hooks. Implementations of these hooks are then executed within each agent to connect to local resources of that type and to perform tasks such as auto-inventory or control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84360"/>
            <a:ext cx="4557600" cy="3417840"/>
          </a:xfrm>
          <a:prstGeom prst="rect">
            <a:avLst/>
          </a:prstGeom>
          <a:ln w="0">
            <a:noFill/>
          </a:ln>
        </p:spPr>
      </p:sp>
      <p:sp>
        <p:nvSpPr>
          <p:cNvPr id="17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ical plugin utilizes a descriptor xml file call “hq-plugin.xml”. This descriptor has definitions for the platforms, servers and service types recognized by this plugin as well as references to implementation classes, configurations, metrics definitions and even help documentation. The Package reference in the root plugin tag allows for default package declaration used when referencing implementation 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new server type, a &lt;server tag defines the name of the server and the associated hook impelmentations that apply to that server. In this case, there is an autoinventory implemenation called MX4JDetector and a measurement implemenation call MX4JMeasurment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50920" y="684360"/>
            <a:ext cx="4557600" cy="3417840"/>
          </a:xfrm>
          <a:prstGeom prst="rect">
            <a:avLst/>
          </a:prstGeom>
          <a:ln w="0">
            <a:noFill/>
          </a:ln>
        </p:spPr>
      </p:sp>
      <p:sp>
        <p:nvSpPr>
          <p:cNvPr id="17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we are viewing a service definition inside of the parent server definition from the previous slide. This service, called the Echo Service, includes metadata for a configuration that will be presented on the service configuration screen and displayed to the user as “Service N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references actions of “start” and “stop” that will be placed into a drop-down for the service’s control tab. When selected, these actions will be sent from the server to the agent which will pass them off to the control implementation defined as “MX4JControl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fig also references a metrics set that is defined elsewhere in the file. By using the include attribute, we can define a set of metrics once and aggregate them into other metrics sets or into resources. If all your business services implemented “status” and “availability” metrics commonly, but also each had additional metrics information, status and availability could be aliased once and then reused for each service definitio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0920" y="684360"/>
            <a:ext cx="4557600" cy="3417840"/>
          </a:xfrm>
          <a:prstGeom prst="rect">
            <a:avLst/>
          </a:prstGeom>
          <a:ln w="0">
            <a:noFill/>
          </a:ln>
        </p:spPr>
      </p:sp>
      <p:sp>
        <p:nvSpPr>
          <p:cNvPr id="17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s are point-in-time recordings of numeric data and are attached to inventoried resources such as platforms, servers and services. A plugin descriptor defines the metrics available for supported resources and information about how to collect them. This metadata is used by the server to provide the metrics template management and custom collection interval overrides for a particular service. The plugin can provide metrics with default collection times to be used in the template, as well as providing a name, a category and the units of the measure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9920F9C4-2430-40FE-9B20-C63230F7104F}"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gent &amp; PDK</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a:t>
            </a:r>
            <a:endParaRPr b="0" lang="en-US" sz="3400" spc="-1" strike="noStrike">
              <a:solidFill>
                <a:srgbClr val="000000"/>
              </a:solidFill>
              <a:latin typeface="Verdana"/>
            </a:endParaRPr>
          </a:p>
        </p:txBody>
      </p:sp>
      <p:sp>
        <p:nvSpPr>
          <p:cNvPr id="14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
          <p:cNvSpPr/>
          <p:nvPr/>
        </p:nvSpPr>
        <p:spPr>
          <a:xfrm>
            <a:off x="685800" y="1295280"/>
            <a:ext cx="7910640" cy="49532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 name="echo-service“&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 name="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lias="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emplate="${EchoService},name=%service.name%:${alia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ategory="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On="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dicator="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units="percentag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llectionType="dynamic"/&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 name="Upti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lias="Upti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emplate="${EchoService},name=%service.name%:${alia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ategory="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On="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dicator="fals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units="m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llectionType="static"/&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g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 implementation</a:t>
            </a:r>
            <a:endParaRPr b="0" lang="en-US" sz="3400" spc="-1" strike="noStrike">
              <a:solidFill>
                <a:srgbClr val="000000"/>
              </a:solidFill>
              <a:latin typeface="Verdana"/>
            </a:endParaRPr>
          </a:p>
        </p:txBody>
      </p:sp>
      <p:sp>
        <p:nvSpPr>
          <p:cNvPr id="145" name=""/>
          <p:cNvSpPr/>
          <p:nvPr/>
        </p:nvSpPr>
        <p:spPr>
          <a:xfrm>
            <a:off x="685800" y="1143000"/>
            <a:ext cx="7910640" cy="51814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MX4JMeasurementPlugin extends MeasurementPlugi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MetricValue getValue(Metric metric)</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hrows PluginExcep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etricNotFoundExcep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etricUnreachableExceptio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jmxUrl = metric.getProperties().getProperty(PROP_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objectName = metric.getObject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attribute = metric.getAttribute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JMXServiceURL url = new JMXServiceURL(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JMXConnector connector = JMXConnectorFactory.connect(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BeanServerConnection conn = connector.getMBeanServerConne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ObjectName objName = new ObjectName(object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turn conn.getAttribute(objName, attribut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val = Double.valueOf(obj.toString()).doubleVal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turn new MetricValue(va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xample metrics defaults</a:t>
            </a:r>
            <a:endParaRPr b="0" lang="en-US" sz="3400" spc="-1" strike="noStrike">
              <a:solidFill>
                <a:srgbClr val="000000"/>
              </a:solidFill>
              <a:latin typeface="Verdana"/>
            </a:endParaRPr>
          </a:p>
        </p:txBody>
      </p:sp>
      <p:pic>
        <p:nvPicPr>
          <p:cNvPr id="147" name="" descr=""/>
          <p:cNvPicPr/>
          <p:nvPr/>
        </p:nvPicPr>
        <p:blipFill>
          <a:blip r:embed="rId1"/>
          <a:srcRect l="29048" t="33999" r="10953" b="15714"/>
          <a:stretch/>
        </p:blipFill>
        <p:spPr>
          <a:xfrm>
            <a:off x="228600" y="1295280"/>
            <a:ext cx="8610480" cy="4510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controls</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elow is an example of resource control provided by a plugin</a:t>
            </a:r>
            <a:endParaRPr b="0" lang="en-US" sz="3000" spc="-1" strike="noStrike">
              <a:solidFill>
                <a:srgbClr val="000000"/>
              </a:solidFill>
              <a:latin typeface="Verdana"/>
            </a:endParaRPr>
          </a:p>
          <a:p>
            <a:pPr marL="469800" indent="-469800">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plugin implements three control actions, start, stop and reload via </a:t>
            </a:r>
            <a:r>
              <a:rPr b="0" lang="en-US" sz="1800" spc="-1" strike="noStrike">
                <a:solidFill>
                  <a:srgbClr val="000000"/>
                </a:solidFill>
                <a:latin typeface="Courier New"/>
              </a:rPr>
              <a:t>&lt;actions include="start,stop,restart"/&gt;</a:t>
            </a:r>
            <a:endParaRPr b="0" lang="en-US" sz="18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se actions can be scheduled and are historically tracked</a:t>
            </a:r>
            <a:endParaRPr b="0" lang="en-US" sz="3000" spc="-1" strike="noStrike">
              <a:solidFill>
                <a:srgbClr val="000000"/>
              </a:solidFill>
              <a:latin typeface="Verdana"/>
            </a:endParaRPr>
          </a:p>
        </p:txBody>
      </p:sp>
      <p:pic>
        <p:nvPicPr>
          <p:cNvPr id="150" name="" descr=""/>
          <p:cNvPicPr/>
          <p:nvPr/>
        </p:nvPicPr>
        <p:blipFill>
          <a:blip r:embed="rId1"/>
          <a:srcRect l="29547" t="50783" r="38120" b="31000"/>
          <a:stretch/>
        </p:blipFill>
        <p:spPr>
          <a:xfrm>
            <a:off x="1295280" y="4495680"/>
            <a:ext cx="5175360" cy="1822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controls implementation</a:t>
            </a:r>
            <a:endParaRPr b="0" lang="en-US" sz="3000" spc="-1" strike="noStrike">
              <a:solidFill>
                <a:srgbClr val="000000"/>
              </a:solidFill>
              <a:latin typeface="Verdana"/>
            </a:endParaRPr>
          </a:p>
        </p:txBody>
      </p:sp>
      <p:sp>
        <p:nvSpPr>
          <p:cNvPr id="152" name=""/>
          <p:cNvSpPr/>
          <p:nvPr/>
        </p:nvSpPr>
        <p:spPr>
          <a:xfrm>
            <a:off x="685800" y="1143000"/>
            <a:ext cx="7910640" cy="51814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doAction(String action) throws PluginExceptio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jmxUrl = this.config.getValue(MX4JUtil.PROP_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name = this.config.getValue(MX4JDetector.PROP_SERVICE_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object = "hyperic:type=EchoServer,name=" + 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ault to error</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FAILUR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f (action.equals("star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ARTING);</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X4JUtil.invoke(jmxUrl, object, a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SUCCES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ARTED);</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else if (action.equals("stop"))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OPPING);</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X4JUtil.invoke(jmxUrl, object, a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SUCCES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OPPED);</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autoinventory</a:t>
            </a:r>
            <a:endParaRPr b="0" lang="en-US" sz="3400" spc="-1" strike="noStrike">
              <a:solidFill>
                <a:srgbClr val="000000"/>
              </a:solidFill>
              <a:latin typeface="Verdana"/>
            </a:endParaRPr>
          </a:p>
        </p:txBody>
      </p:sp>
      <p:sp>
        <p:nvSpPr>
          <p:cNvPr id="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utoinventory plugin can search for known services using means appropriate to the servi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 server management could attempt connection to an admin URL on port 80 for example</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inventory plugins can also configure file system properties to integrate with the search architectur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lements </a:t>
            </a:r>
            <a:endParaRPr b="0" lang="en-US" sz="3000" spc="-1" strike="noStrike">
              <a:solidFill>
                <a:srgbClr val="000000"/>
              </a:solidFill>
              <a:latin typeface="Verdana"/>
            </a:endParaRPr>
          </a:p>
          <a:p>
            <a:pPr lvl="1" marL="90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ist discoverServices(ConfigResponse serverConfig)</a:t>
            </a:r>
            <a:endParaRPr b="0" lang="en-US" sz="1800" spc="-1" strike="noStrike">
              <a:solidFill>
                <a:srgbClr val="000000"/>
              </a:solidFill>
              <a:latin typeface="Verdana"/>
            </a:endParaRPr>
          </a:p>
          <a:p>
            <a:pPr marL="469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5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Agent architecture of JBN EM</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management and display of metrics collection, control operation and auto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plugin architecture including</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execution of plugin implementations</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definition of resource metadata</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implementation of metrics gathering</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58"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 of the Agent Architectur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 Agent communication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Development Ki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X4J Exampl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8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Verdana"/>
              </a:rPr>
              <a:t>The JBN EM Server</a:t>
            </a:r>
            <a:endParaRPr b="0" lang="en-US" sz="33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ntrols all agents</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rovides the user interface for interactive monitoring</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racks and stores historical information including metrics data and control history</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rovides security and access control to agent features</a:t>
            </a:r>
            <a:endParaRPr b="0" lang="en-US" sz="2900" spc="-1" strike="noStrike">
              <a:solidFill>
                <a:srgbClr val="000000"/>
              </a:solidFill>
              <a:latin typeface="Verdana"/>
            </a:endParaRPr>
          </a:p>
        </p:txBody>
      </p:sp>
      <p:sp>
        <p:nvSpPr>
          <p:cNvPr id="95"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overview</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overview</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ts on behalf of the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rganizes auto-inventory sca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s metrics information according to the server configured schedul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cumulated metrics information is streamed to the server on a regular basi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gent communication</a:t>
            </a:r>
            <a:endParaRPr b="0" lang="en-US" sz="3400" spc="-1" strike="noStrike">
              <a:solidFill>
                <a:srgbClr val="000000"/>
              </a:solidFill>
              <a:latin typeface="Verdana"/>
            </a:endParaRPr>
          </a:p>
        </p:txBody>
      </p:sp>
      <p:sp>
        <p:nvSpPr>
          <p:cNvPr id="99" name=""/>
          <p:cNvSpPr/>
          <p:nvPr/>
        </p:nvSpPr>
        <p:spPr>
          <a:xfrm>
            <a:off x="990720" y="1600200"/>
            <a:ext cx="1525320" cy="1143000"/>
          </a:xfrm>
          <a:prstGeom prst="ellipse">
            <a:avLst/>
          </a:prstGeom>
          <a:solidFill>
            <a:srgbClr val="a3b2c1"/>
          </a:solidFill>
          <a:ln w="936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JBN EM</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erver</a:t>
            </a:r>
            <a:endParaRPr b="0" lang="en-US" sz="2000" spc="-1" strike="noStrike">
              <a:solidFill>
                <a:srgbClr val="000000"/>
              </a:solidFill>
              <a:latin typeface="Arial"/>
            </a:endParaRPr>
          </a:p>
        </p:txBody>
      </p:sp>
      <p:sp>
        <p:nvSpPr>
          <p:cNvPr id="100" name=""/>
          <p:cNvSpPr/>
          <p:nvPr/>
        </p:nvSpPr>
        <p:spPr>
          <a:xfrm>
            <a:off x="762120" y="4038480"/>
            <a:ext cx="2514600" cy="19051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 name=""/>
          <p:cNvSpPr/>
          <p:nvPr/>
        </p:nvSpPr>
        <p:spPr>
          <a:xfrm>
            <a:off x="761400" y="4038480"/>
            <a:ext cx="1014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A</a:t>
            </a:r>
            <a:endParaRPr b="0" lang="en-US" sz="1400" spc="-1" strike="noStrike">
              <a:solidFill>
                <a:srgbClr val="000000"/>
              </a:solidFill>
              <a:latin typeface="Arial"/>
            </a:endParaRPr>
          </a:p>
        </p:txBody>
      </p:sp>
      <p:sp>
        <p:nvSpPr>
          <p:cNvPr id="102" name=""/>
          <p:cNvSpPr/>
          <p:nvPr/>
        </p:nvSpPr>
        <p:spPr>
          <a:xfrm>
            <a:off x="2025360" y="409536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03" name=""/>
          <p:cNvSpPr/>
          <p:nvPr/>
        </p:nvSpPr>
        <p:spPr>
          <a:xfrm>
            <a:off x="838080" y="48006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A</a:t>
            </a:r>
            <a:endParaRPr b="0" lang="en-US" sz="1400" spc="-1" strike="noStrike">
              <a:solidFill>
                <a:srgbClr val="000000"/>
              </a:solidFill>
              <a:latin typeface="Arial"/>
            </a:endParaRPr>
          </a:p>
        </p:txBody>
      </p:sp>
      <p:sp>
        <p:nvSpPr>
          <p:cNvPr id="104" name=""/>
          <p:cNvSpPr/>
          <p:nvPr/>
        </p:nvSpPr>
        <p:spPr>
          <a:xfrm>
            <a:off x="838080" y="52578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B</a:t>
            </a:r>
            <a:endParaRPr b="0" lang="en-US" sz="1400" spc="-1" strike="noStrike">
              <a:solidFill>
                <a:srgbClr val="000000"/>
              </a:solidFill>
              <a:latin typeface="Arial"/>
            </a:endParaRPr>
          </a:p>
        </p:txBody>
      </p:sp>
      <p:sp>
        <p:nvSpPr>
          <p:cNvPr id="105" name=""/>
          <p:cNvSpPr/>
          <p:nvPr/>
        </p:nvSpPr>
        <p:spPr>
          <a:xfrm>
            <a:off x="1981080" y="54100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06" name=""/>
          <p:cNvSpPr/>
          <p:nvPr/>
        </p:nvSpPr>
        <p:spPr>
          <a:xfrm>
            <a:off x="3886200" y="3429000"/>
            <a:ext cx="4114800" cy="26668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885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B</a:t>
            </a:r>
            <a:endParaRPr b="0" lang="en-US" sz="1400" spc="-1" strike="noStrike">
              <a:solidFill>
                <a:srgbClr val="000000"/>
              </a:solidFill>
              <a:latin typeface="Arial"/>
            </a:endParaRPr>
          </a:p>
        </p:txBody>
      </p:sp>
      <p:sp>
        <p:nvSpPr>
          <p:cNvPr id="108" name=""/>
          <p:cNvSpPr/>
          <p:nvPr/>
        </p:nvSpPr>
        <p:spPr>
          <a:xfrm>
            <a:off x="5454360" y="340956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09" name=""/>
          <p:cNvSpPr/>
          <p:nvPr/>
        </p:nvSpPr>
        <p:spPr>
          <a:xfrm>
            <a:off x="3962520" y="4952880"/>
            <a:ext cx="99036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A</a:t>
            </a:r>
            <a:endParaRPr b="0" lang="en-US" sz="1400" spc="-1" strike="noStrike">
              <a:solidFill>
                <a:srgbClr val="000000"/>
              </a:solidFill>
              <a:latin typeface="Arial"/>
            </a:endParaRPr>
          </a:p>
        </p:txBody>
      </p:sp>
      <p:sp>
        <p:nvSpPr>
          <p:cNvPr id="110" name=""/>
          <p:cNvSpPr/>
          <p:nvPr/>
        </p:nvSpPr>
        <p:spPr>
          <a:xfrm>
            <a:off x="5029200" y="56386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B</a:t>
            </a:r>
            <a:endParaRPr b="0" lang="en-US" sz="1400" spc="-1" strike="noStrike">
              <a:solidFill>
                <a:srgbClr val="000000"/>
              </a:solidFill>
              <a:latin typeface="Arial"/>
            </a:endParaRPr>
          </a:p>
        </p:txBody>
      </p:sp>
      <p:sp>
        <p:nvSpPr>
          <p:cNvPr id="111" name=""/>
          <p:cNvSpPr/>
          <p:nvPr/>
        </p:nvSpPr>
        <p:spPr>
          <a:xfrm>
            <a:off x="6781680" y="51814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12" name=""/>
          <p:cNvSpPr/>
          <p:nvPr/>
        </p:nvSpPr>
        <p:spPr>
          <a:xfrm>
            <a:off x="6248520" y="1143000"/>
            <a:ext cx="2514600" cy="19051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 name=""/>
          <p:cNvSpPr/>
          <p:nvPr/>
        </p:nvSpPr>
        <p:spPr>
          <a:xfrm>
            <a:off x="6243120" y="1143000"/>
            <a:ext cx="1023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C</a:t>
            </a:r>
            <a:endParaRPr b="0" lang="en-US" sz="1400" spc="-1" strike="noStrike">
              <a:solidFill>
                <a:srgbClr val="000000"/>
              </a:solidFill>
              <a:latin typeface="Arial"/>
            </a:endParaRPr>
          </a:p>
        </p:txBody>
      </p:sp>
      <p:sp>
        <p:nvSpPr>
          <p:cNvPr id="114" name=""/>
          <p:cNvSpPr/>
          <p:nvPr/>
        </p:nvSpPr>
        <p:spPr>
          <a:xfrm>
            <a:off x="7511760" y="119988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15" name=""/>
          <p:cNvSpPr/>
          <p:nvPr/>
        </p:nvSpPr>
        <p:spPr>
          <a:xfrm>
            <a:off x="6324480" y="190512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a:t>
            </a:r>
            <a:endParaRPr b="0" lang="en-US" sz="1400" spc="-1" strike="noStrike">
              <a:solidFill>
                <a:srgbClr val="000000"/>
              </a:solidFill>
              <a:latin typeface="Arial"/>
            </a:endParaRPr>
          </a:p>
        </p:txBody>
      </p:sp>
      <p:sp>
        <p:nvSpPr>
          <p:cNvPr id="116" name=""/>
          <p:cNvSpPr/>
          <p:nvPr/>
        </p:nvSpPr>
        <p:spPr>
          <a:xfrm>
            <a:off x="6324480" y="22096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omcat</a:t>
            </a:r>
            <a:endParaRPr b="0" lang="en-US" sz="1400" spc="-1" strike="noStrike">
              <a:solidFill>
                <a:srgbClr val="000000"/>
              </a:solidFill>
              <a:latin typeface="Arial"/>
            </a:endParaRPr>
          </a:p>
        </p:txBody>
      </p:sp>
      <p:sp>
        <p:nvSpPr>
          <p:cNvPr id="117" name=""/>
          <p:cNvSpPr/>
          <p:nvPr/>
        </p:nvSpPr>
        <p:spPr>
          <a:xfrm>
            <a:off x="7467480" y="25146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18" name=""/>
          <p:cNvSpPr/>
          <p:nvPr/>
        </p:nvSpPr>
        <p:spPr>
          <a:xfrm>
            <a:off x="5410080" y="4191120"/>
            <a:ext cx="457200" cy="38088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9" name=""/>
          <p:cNvSpPr/>
          <p:nvPr/>
        </p:nvSpPr>
        <p:spPr>
          <a:xfrm>
            <a:off x="4572000" y="4114800"/>
            <a:ext cx="7462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ugins</a:t>
            </a:r>
            <a:endParaRPr b="0" lang="en-US" sz="1400" spc="-1" strike="noStrike">
              <a:solidFill>
                <a:srgbClr val="000000"/>
              </a:solidFill>
              <a:latin typeface="Arial"/>
            </a:endParaRPr>
          </a:p>
        </p:txBody>
      </p:sp>
      <p:sp>
        <p:nvSpPr>
          <p:cNvPr id="120" name=""/>
          <p:cNvSpPr/>
          <p:nvPr/>
        </p:nvSpPr>
        <p:spPr>
          <a:xfrm>
            <a:off x="5943600" y="4267080"/>
            <a:ext cx="457200" cy="3812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1" name=""/>
          <p:cNvSpPr/>
          <p:nvPr/>
        </p:nvSpPr>
        <p:spPr>
          <a:xfrm>
            <a:off x="6400800" y="4038480"/>
            <a:ext cx="457200" cy="3812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2" name=""/>
          <p:cNvSpPr/>
          <p:nvPr/>
        </p:nvSpPr>
        <p:spPr>
          <a:xfrm flipV="1">
            <a:off x="4419720" y="4495680"/>
            <a:ext cx="990360" cy="457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H="1">
            <a:off x="5486400" y="4572000"/>
            <a:ext cx="7632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6324480" y="4648320"/>
            <a:ext cx="9144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133720" y="2666880"/>
            <a:ext cx="53316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flipV="1">
            <a:off x="1676160" y="2743200"/>
            <a:ext cx="60948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2514600" y="2362320"/>
            <a:ext cx="32004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H="1" flipV="1">
            <a:off x="2437920" y="2514240"/>
            <a:ext cx="312444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rot="1195800">
            <a:off x="3428280" y="25146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trol</a:t>
            </a:r>
            <a:endParaRPr b="0" lang="en-US" sz="1400" spc="-1" strike="noStrike">
              <a:solidFill>
                <a:srgbClr val="000000"/>
              </a:solidFill>
              <a:latin typeface="Arial"/>
            </a:endParaRPr>
          </a:p>
        </p:txBody>
      </p:sp>
      <p:sp>
        <p:nvSpPr>
          <p:cNvPr id="130" name=""/>
          <p:cNvSpPr/>
          <p:nvPr/>
        </p:nvSpPr>
        <p:spPr>
          <a:xfrm rot="1195800">
            <a:off x="2972160" y="2895480"/>
            <a:ext cx="7567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etric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overview</a:t>
            </a:r>
            <a:endParaRPr b="0" lang="en-US" sz="3400" spc="-1" strike="noStrike">
              <a:solidFill>
                <a:srgbClr val="000000"/>
              </a:solidFill>
              <a:latin typeface="Verdana"/>
            </a:endParaRPr>
          </a:p>
        </p:txBody>
      </p:sp>
      <p:sp>
        <p:nvSpPr>
          <p:cNvPr id="1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JBN EM Plugin is a self-contained jar or xml file representing a platform, server or service that can be monitored</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y include metadata about the inventory hierarch of these resource types in the form of an xml descriptor</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s metadata is loaded by both the server and the agent</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ugin hooks are available for</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asurement (metric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uto Inventory</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ponse Time</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descriptor</a:t>
            </a:r>
            <a:endParaRPr b="0" lang="en-US" sz="3400" spc="-1" strike="noStrike">
              <a:solidFill>
                <a:srgbClr val="000000"/>
              </a:solidFill>
              <a:latin typeface="Verdana"/>
            </a:endParaRPr>
          </a:p>
        </p:txBody>
      </p:sp>
      <p:sp>
        <p:nvSpPr>
          <p:cNvPr id="134" name="PlaceHolder 2"/>
          <p:cNvSpPr>
            <a:spLocks noGrp="1"/>
          </p:cNvSpPr>
          <p:nvPr>
            <p:ph/>
          </p:nvPr>
        </p:nvSpPr>
        <p:spPr>
          <a:xfrm>
            <a:off x="595080" y="1185840"/>
            <a:ext cx="8001000" cy="10238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lugin descriptor is named “hq-plugin.xml” when deployed in a plugin jar</a:t>
            </a:r>
            <a:endParaRPr b="0" lang="en-US" sz="2600" spc="-1" strike="noStrike">
              <a:solidFill>
                <a:srgbClr val="000000"/>
              </a:solidFill>
              <a:latin typeface="Verdana"/>
            </a:endParaRPr>
          </a:p>
        </p:txBody>
      </p:sp>
      <p:sp>
        <p:nvSpPr>
          <p:cNvPr id="135" name=""/>
          <p:cNvSpPr/>
          <p:nvPr/>
        </p:nvSpPr>
        <p:spPr>
          <a:xfrm>
            <a:off x="685800" y="2362320"/>
            <a:ext cx="7910640" cy="3886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plugin package="net.hyperic.hq.product.mx4j"&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roperty name="template-config“ value="jmxUrl=%jmxUrl%"/&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filter name="ServerInfo“ value="hyperic:type=ServerInfo"/&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er name="Example Server“ version="1.0"</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scription="Example MX4J 3.0 Based Server"&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 package attribute above is prepended --&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measurement“ class="MX4JMeasurementPlugin"/&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autoinventory“ class="MX4JDetector"/&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services</a:t>
            </a:r>
            <a:endParaRPr b="0" lang="en-US" sz="3400" spc="-1" strike="noStrike">
              <a:solidFill>
                <a:srgbClr val="000000"/>
              </a:solidFill>
              <a:latin typeface="Verdana"/>
            </a:endParaRPr>
          </a:p>
        </p:txBody>
      </p:sp>
      <p:sp>
        <p:nvSpPr>
          <p:cNvPr id="13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defined against platforms, servers and services</a:t>
            </a:r>
            <a:endParaRPr b="0" lang="en-US" sz="3000" spc="-1" strike="noStrike">
              <a:solidFill>
                <a:srgbClr val="000000"/>
              </a:solidFill>
              <a:latin typeface="Verdana"/>
            </a:endParaRPr>
          </a:p>
        </p:txBody>
      </p:sp>
      <p:sp>
        <p:nvSpPr>
          <p:cNvPr id="138" name=""/>
          <p:cNvSpPr/>
          <p:nvPr/>
        </p:nvSpPr>
        <p:spPr>
          <a:xfrm>
            <a:off x="685800" y="2362320"/>
            <a:ext cx="7910640" cy="3886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fontScale="99000"/>
          </a:bodyPr>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r>
              <a:rPr b="0" lang="en-US" sz="1400" spc="-1" strike="noStrike">
                <a:solidFill>
                  <a:srgbClr val="000000"/>
                </a:solidFill>
                <a:latin typeface="Courier New"/>
              </a:rPr>
              <a: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ice name="Echo 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control“ class="MX4JControlPlugin"/&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config&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option name="service.name"</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scription="Service Name"</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config&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actions include="start,stop"/&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 include="echo-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a:t>
            </a: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point in time recordings of numeric information from a resourc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defined against resources in the descripto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server can manage metrics templates that define the default collection interv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server can define custom collection intervals for a specific sevic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Greg Hinkle</dc:creator>
  <dc:description/>
  <dc:language>en-US</dc:language>
  <cp:lastModifiedBy>ghinkle</cp:lastModifiedBy>
  <dcterms:modified xsi:type="dcterms:W3CDTF">2005-08-23T15:58:27Z</dcterms:modified>
  <cp:revision>121</cp:revision>
  <dc:subject/>
  <dc:title>JBN EM Agent &amp; PDK</dc:title>
</cp:coreProperties>
</file>