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86724"/>
        <c:axId val="5666711"/>
      </c:barChart>
      <c:catAx>
        <c:axId val="77786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6711"/>
        <c:crosses val="autoZero"/>
        <c:auto val="1"/>
        <c:lblAlgn val="ctr"/>
        <c:lblOffset val="100"/>
        <c:noMultiLvlLbl val="0"/>
      </c:catAx>
      <c:valAx>
        <c:axId val="5666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86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8BC-5CD6-43CC-B57D-48167F72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49B-FE06-42E9-B6B7-1DB0FED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C0A-2FED-41B7-B4BC-2FF7C6C9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AF3-43BA-4BB3-949D-52578D3F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52C-E5FA-48C7-94F4-880BC22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2DF-F66B-474B-9E8C-3D8ED42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3D1-1B16-4A5A-9AA4-C351A4EC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B8C-51B4-468B-BAC0-068C899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633-61DB-402F-A67A-48743731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68A-D217-4315-A665-E3FDF81B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DEF-E1F2-4529-B4FC-0C9CA71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D51-5C09-4621-86C2-AD6C23C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2FCC9-085C-41AC-8242-CC17428CD2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