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8230"/>
        <c:axId val="51328794"/>
      </c:barChart>
      <c:catAx>
        <c:axId val="45218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8794"/>
        <c:crosses val="autoZero"/>
        <c:auto val="1"/>
        <c:lblAlgn val="ctr"/>
        <c:lblOffset val="100"/>
        <c:noMultiLvlLbl val="0"/>
      </c:catAx>
      <c:valAx>
        <c:axId val="51328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8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89E-A8E3-49DE-AF9F-48A7D1AD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35A-E6DE-4F1D-92C9-C3113F89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9BC-13F8-453A-9496-9E5B6D49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098-63C3-47D4-BBD2-4F8335C5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D68-F6EA-4961-81D5-5CA30719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D03-A2B5-4FC0-A5E7-34EA62CE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E02-7449-41A1-8EA0-20513F1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5CC-84FE-4FA5-AB33-081F12ED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A03-80FB-4FEC-BCD9-2720F867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F7C-4954-469E-8CAC-540EDB6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442-79E1-4F09-9B02-E7BAB18A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59B-A090-4975-88F5-5005274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B5096-CCCC-4B5D-84F7-3FC5B81624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